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3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4" name="Text Box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5" name="PlaceHolder 1"/>
          <p:cNvSpPr>
            <a:spLocks noGrp="1"/>
          </p:cNvSpPr>
          <p:nvPr>
            <p:ph type="dt" idx="69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Text Box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 type="sldNum" idx="70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C095BBC-270C-48F2-9058-8F642744C6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DD3427E-6BF4-4C95-894E-61E32AB91E3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1108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9D6F743-3B3F-4E93-8A14-E13639FBB38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86ECA20-DBC7-4A53-9116-E4D11E465E9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112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3595E7F-802C-49BF-9153-D76C6B3EAB7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DF76FF1-81FF-45CE-8E67-0B4A88EC73E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1124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CD2F203-1917-46FB-82EA-ECA1AF98CA7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1492452-C0CB-45CC-B5D4-1570F7E6E88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111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0D697E5-DDF7-4803-9D02-AF944D0E589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FA4E350-E98C-4949-9779-10C0E3DABA6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1116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42DD949-9C40-40B2-AA67-291AA08DF8E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525CA-5867-4287-806E-C5D5B363F9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E0EFC-EA56-406D-8D39-64A2FADC42BE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FFBC42-50FB-4C4D-886C-C9F28AAFA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64E8D9D-754E-4141-9F8F-F0F2F7BE8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807B6FE-B186-4FC3-A346-16FE74B5E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83D0AAE-40CA-4138-B1C9-8E49A4BE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F6F6F6-0628-4631-B983-46FF88EFF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C4EFB1A-9642-4B04-8954-B9B488A1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39369EC-EB0A-441D-826E-36D0823B4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62660C-3F92-4F98-938D-2F9D173AD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D559E9-876B-48AA-9214-44F1EB26C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EA9B2F3-FF54-4475-9BC0-457B29BD3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EF990-D045-462F-9959-FFEE60E0731F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E733694-E1CF-458A-9375-2E4643CA0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8658ACA-129C-4326-A2EC-E7AC765CB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C4130A3-ED81-4EAD-B729-072C4590C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62D99FE-252B-48EB-92BA-6246C4800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4F51D33-31D3-48C0-A36A-F1B6F1032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81F1A0C-2992-412A-BE1F-4BBC3CBD7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5170A7E-7363-4021-B274-5E9CD7BD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E2D468B-3FB8-476E-AC04-7524D801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9D01726-779C-4F62-B55F-23A330419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1E6D58B-B862-4C5E-BABF-DCD51CBE8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F45D1-AB9D-4147-BD4A-AABD4AE72B3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9346F28-745B-4273-9921-5A639C5EB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A8EFD76-30EC-407B-B0A8-0A47D13B6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43C0BB8-70DE-4A38-863A-118EC6A7A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1B21CDB-B623-4E9D-A452-2CB469E62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A5124E7-E862-4358-883B-90C507972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48B4592-64AA-4E84-9AB0-207371DED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D0332D5-5F36-4AF5-919C-361B2EAA4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B1D5C27-3240-4A05-A786-D7305034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5CB2A7F-7ACF-445F-A746-1E3A9D90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5A2DB5C-29F2-4067-BB9E-BBF98AB6E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1CD68-D4A4-4721-A12E-9CAF2668FBFF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7AB5A72-FF69-488F-99B9-338DBB7DB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D63933F-D058-4A43-98F8-9E2AADBE0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287AB7D-3848-4E93-B513-848DD7C60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5600227-8E08-4184-8057-94C8642AD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97ECC6C-1815-46D0-B821-168E92E6C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CCABF7E-D20B-4751-A4E7-9B7275816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8F90EB0-9D9F-4979-800D-3A77142E2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9749138-C947-4C64-8DAF-4A039476A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B73F95F-4E26-4BE3-8C79-3386A8DC8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B6BBD28-8DD2-4004-886B-EEDECE1B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F28E6-A786-4B68-9615-7D54880342C2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BA97B56-5BB0-423F-82E6-9C3202A54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6F73C4C-348B-48CB-B0B4-F2024AB0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CD4CCAC-E304-4F4B-A0BB-F272071C3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4C73470-D26A-4C9D-8831-859BB083A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B692ED9-6CD7-42C8-BAE2-4D6CE5B4D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5D807DD-01F1-4C8C-A959-C80E47DF8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6E59F8C-BF99-44B7-92C4-8E5064DA0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43E2458-5AA6-4F53-BDA3-036E712F3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FDB1BB3-6E51-4DD5-8918-ABD956A5E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FDED6F5-F511-41FA-B3B2-5E324D526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DF2E6-F55B-4C87-9262-EEF829803276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CF0202C-0B81-44F4-B1FF-A9FB893C1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37B88A1-8B59-4C43-8B33-363D14D6B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77662F6-898A-48E4-9263-3086E2100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F51B23A-3805-4463-A6CE-4B881CBB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8A9C9F6-C98F-40C1-80E2-8EDB2F547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D7238CA-AD12-4B25-90AE-A1F371EA7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8164DCC-A816-4501-8190-C01429AE8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1727A5B-39E0-44AE-87AC-65607E4DE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147403D-4634-423C-BF7D-0DCE7B27E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72DC65B-5228-40D9-B7E5-67E616C6B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4656A-683F-4B7A-8F79-93BCD719622C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ED51876-7763-40A4-8830-547EA725D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EE9F0C9-4580-4A7A-8FB9-17300BC8C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598356C-D835-4821-A7D3-1AF537737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739B00D-8CA7-4326-B49A-8BC1860A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8DFB34A-2D2F-4261-BB2D-39B726F81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CBF50F4-1457-4428-86BC-00450188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6806015-657C-45FD-8007-16F9A8A79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2E552BF-06D1-4145-9F62-6DC81A406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64DE2AB-4A66-41C8-934C-F5D0A77EE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4131BF7-9C80-4DCE-A51A-B858E5580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D2521-958A-4E3E-97AD-1B8E1FD6141D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A2675C3-2383-4810-8C92-ACDD6B365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B53CF4D-121C-4261-87C2-4DDB5833B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8457B37-283A-4D22-9F84-9ED62C5B3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1859089-9AC6-4BCE-ADDF-ACA00E00F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46C6973-AB58-40C9-8557-B1ED6625E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609979A-8410-419B-9234-73EE63E79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1F03CD5-69E4-4798-A409-1BE15BD8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4E89C24-74C9-48D8-8DE2-81F041CFD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AEBA595-52A5-4A7C-9642-71FF3CFC9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8827D18-3E10-446A-AA04-D9392AE80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CCB37-48C8-4C4C-BE15-223D58688EE1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91ECBFB-C6D9-46A3-9517-2F9ED321C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9540D32-127E-454A-9285-379120206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FE331DC-C37E-4BAF-9182-ED494AD65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01C52C6-1773-4D3E-A0F8-8712603AF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93EC505-A709-4AC2-9FE4-DEB748051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83465D2-8506-4334-BDC2-8B50F5AD0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3B9E052-4F40-4384-94D6-DAF4C8887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0EF38C1-E2AF-4C4B-B432-6DB390D9F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7DEF3E6-04C4-4258-9BB6-302C03D6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378B214-ECEA-49FD-9327-36E93B2DC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29FEC-7112-4F8F-943B-8A5339AC1231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311CFCA-FC98-42B4-BAAB-257BAC042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CB5448D-B607-4A51-BCF7-C62702184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914D67F-E4B4-404D-B1B9-0BD7CF39B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B0FA41E-6E87-40DB-96AF-86763F0E8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9E9075B-A64E-4069-AA48-3F89C2726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5B355EA-CAC5-4C3B-83F0-EEA023633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58C7256-0BAF-401D-A829-ED3B392F9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461EEA1-6761-4B4D-85FA-D75A89053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8E2012E-7258-437F-9F42-9B20D3D6A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90C4BB5-7D78-4D77-80A2-780C0157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B7972-922C-4E08-A28E-8F0548AE8A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66E0B-6939-447C-90C8-D8FFDB750BE8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68C8E3A-E8F3-46BE-B4FB-12B1E4417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8D531AA-8628-4306-830A-7779ED9A6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998B2B9-1FE6-4DDB-898C-CC6C3EF99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A9D4F39-E6A2-4C5C-8ED1-CDD763276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32C5CE0-1A93-49E8-9556-A2239E62E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59E7E51-C7BB-4078-9F98-B416AF592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E804677-9D39-4842-841A-4E45165A0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CFDE195-1037-455E-9BE5-08C71B671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A20F40F-7A6A-4386-BA57-6E4B7D164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364FFB2-D3F0-4888-B0F7-5F46CE8FC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A022E-074E-4D51-980F-E7856D0E80E8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863F3AD-C456-4395-992E-929708C51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15AD837-D531-4C36-A01C-4C6E6887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5F864A6-2A5D-4599-9D86-7FD90EF2E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5CD7790-0190-4514-B1D9-A60E3B072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5FEBA01-22D0-407B-8D93-97118F08D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F043837-8D0F-4ABA-A621-025D5D6DE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B91E0D1-2BE8-4233-A90D-DEE7856A1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359BD23-DC33-4962-A972-2004C3721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9D88527-5104-4382-9EB6-3C15FF04A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0AC4794-A10F-406A-940B-37F55FF05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04A9A-2158-446C-8F14-D5F8914208FA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08629B0-7F2B-45C0-89A1-917F9B549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290FE81-932D-4E93-8FA1-4691F863F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8EEA0A9-5280-4383-A3F1-B0C4E2B90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9AA37CC-1AAA-4960-AAA1-CA928DBE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3DED4D3-0936-4E26-85AE-438878DE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ADCB97B-D2BB-461B-A556-88D161BF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0AB9C19-2943-428C-9A1D-101D3FCA8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83F4CB2-7542-42B4-8F7A-8D57161D6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3FE27DF-F7FA-4115-A012-307009318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C6CC047-1E33-455A-BC23-9FD56E269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0BC23-448D-4116-A4C8-8F28DB4BCFF7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E0E6DD6-8F7B-4992-97B2-04CC12B40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BCD65DE-A570-42C1-963B-FA2D1FFBA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97A12B8-EEDB-4333-B21F-BFB7E9491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F3D64E9-98C0-4E69-B71B-36A164F17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092039C-8037-439F-8086-E0D35752F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C17614A-10F2-4B1A-B61F-3F0F64F45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975CC73-5EE3-4324-8F07-1867EE4AE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2F9B185-1000-47EA-A9B5-B43B96D8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F515F4E-6020-41C8-A678-9D2DA1C66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61A2103-03B1-4FCD-88EE-A70AD421A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4BBC6-D339-49D0-96D9-461B9B9AEF78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6FD6F60-4620-4BAF-8A8B-BA5EDFC49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480A34C-8CED-4F35-A6C8-DC5AAF8BB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F980B6A-A0D1-4BFF-9D18-FEA886B5D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1424B99-BDC1-4C12-9D2F-84D7D9CBE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33B0A46-5807-4B9E-8EAC-237F32E6F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2C6D04D-8398-490F-949C-9BCF948D9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684B738-FE4D-4B72-AC00-EA7DF21F9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12DD4D2-BE55-4E43-94C8-7363EE615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FF0DE1B-6996-4C40-89C2-22D7F8C7F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6C6181C-B55B-4D7C-8B0B-F141955CA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FC5A8A-EFEB-4E28-B387-1A6F9AF47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1AD6721-474D-4C5D-B847-E847930BD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A07A877-EB8E-4700-BA86-12D858C66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6E4DE0E-E72F-4E38-92E0-6FAFA9B3C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338869B-278F-4756-8B5E-8E0DD888E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AAF31E1-5BAC-4EF5-9E4C-4D9763F42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205857E-6E06-4A60-A23D-9022FF824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3EFFF4E-76C1-4992-80CE-EE5AE2AF6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60A3661-F185-4EA5-AAAF-FDD413234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B86BD4C-D13D-473F-80D3-8D3CAD704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96E2CE4-C1D2-4B32-9FC7-AF664DDA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4952AE-306E-4C24-B7BE-121CB16AF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53529CA-7FD9-43DA-8EF4-3BA1F8525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6FB2787-4D10-4683-9093-441B3D46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5D8D84F-4F2A-4FFD-BB91-EBF6E7A9A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4F47D9D-30EE-4066-BCAA-B7329E3AD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B8D0270-DA24-4223-B46A-E42403852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D32D5D54-7DDD-4734-BEE1-1253D7A38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377588CE-DB00-4582-9949-E6223EDDF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70F8DD24-9AE9-4269-B550-A582C26C3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DA57DAB-10BE-45D4-93E7-030A02D97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751731E-26FC-4F09-B58E-7FD75F5DC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5486C2-8748-4BBA-A6E1-D6F2B9490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930A9647-DE5C-45F1-BEFF-6613BDBE5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925D83B2-82DD-4543-B8C5-A512B89E4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DFD4BDB-BD81-40CB-8A06-A95D14AEE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C202D8A-487B-43D1-B675-56118543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AEC181A-AC8E-4B3D-BA1B-4EF64B670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F1E57529-5379-4543-BBA2-474E958D5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5FEEB65-E9F1-4584-AF94-B6FE80672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48F19613-764F-4404-8CD3-09464B67A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CB8614F-515F-488C-9271-AC90BF178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7F8569A-B901-45B5-B982-E27B70422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B700C7-39A1-4890-9F0F-7D2108CBE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28791B5-B10A-4694-9D87-647AC2C55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BFFED36-0393-4613-8EF7-38D3CD660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9722F0C-8CA7-4147-834E-AA16AC336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EE5AAB3-7362-4601-B71B-68DB3E03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5B798EE-DEF0-4B2A-8F5F-756D9C149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51AD5C1-F686-4751-BF2E-2503FF24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BEFAED6-DEB7-48D8-BC31-97886726D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DD1ADDD-795C-4CA2-8725-74B2AC077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32683DD-E9FF-43F3-9C45-96419CE05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5A6983-85A7-4BC6-90FA-EEC0C95E0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F55B2-30B7-494A-950D-2F7BCA91D71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181591-3CED-4E14-9665-FE3AFBE6B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3C47E9-2451-4A6E-A486-A435CA003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D93AF3-C99B-4E95-9364-714D12CA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BB0110-D1E4-4B5E-98CC-72E51BD0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5246D8-6F17-489F-AC3F-FE8F348A2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49A220-8797-49ED-9702-66F501AA7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D0FAD0-98A7-40B6-890C-95E8482CD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6116A1-1037-4D02-8D92-F41C4CAB0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331D0C-C8C0-4472-B07C-2BDF76D69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4C3529-F1A8-4B0F-9513-723429EC4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60801-F15A-41BF-8AD6-CBCB3A152EB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F06CED-5139-4060-A8DE-56FD50580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628545-4E4B-4323-8A0A-05BA94A8E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F4DD61-3E6C-45EB-80A5-FAF2B8DE0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0A5D4B-0D48-4BC8-952F-3227B2B4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BC536D-9E37-4F73-953C-57D2CD4FB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6639C4-A7A9-4691-9770-9E109F69A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014422-F125-40B5-A4BF-F1EC96F70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6568D1-55F7-4E5A-A9FF-221215678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BDAA2E-6FE3-418C-9772-0F9034576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E7BBFC-0258-4473-83B2-17E437C64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68C5B-9CD7-4425-918A-A5D6CB5C904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01FA45-076C-4C76-A6DE-6489D7A54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909D47-054A-46DB-9596-939D60827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AB61EF-D3A1-4101-94A2-D19FD07FC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098BB0-E011-4F6B-8569-6DD18CBDF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37A60B-6D31-4482-A72F-2B6D817B5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433C77-0FB5-474C-A806-41B5443C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20A853-A7C8-428A-9120-33F185126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A25514-37B3-464F-A827-CE8BBC38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D126FC-DB3F-4D5C-91F3-194DCF36B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CB61E8-A688-482E-A9E4-79D283CA5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0DBA2-E128-4910-B67A-26243CC8853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FC1FA3-8F50-4194-AE1E-1325A73F9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8F6C76-CCC9-4C01-A8A8-535663AE6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E96C0B-220E-4D9A-9EA3-E53B015EE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49EE12-75AA-49AE-94BE-C97EF1056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88BE87-8C32-483A-B99A-76A469C93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D90D46-14EB-4B91-BC14-7B2E5DB82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11712A-3D1F-4CB2-B4B8-8B7786875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7619CA-FD73-40BC-A6A6-A4143A40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D1382B-DF01-437A-8F73-27F8034F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D95DB0-76B5-4CAC-9B6C-F9C44550B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324EB-328C-42D7-8CE7-5CE2CBD88C0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9260DB-C4DE-4C00-8A93-91EBE7D41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6FC1AB-FC86-435E-982C-131814349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077AB3-D1CD-496E-BE1E-9206C7C22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D83225-D605-474F-8F31-5D70626FC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757EBA-DF69-4A1D-A4A7-8F754BAA0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093281-6EC4-441A-A0E6-E8E89CFCC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D677F3-1C26-44CA-B8DF-B0C29BBCE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D83E2E-4469-43B4-974E-0419674DF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C67F57-E177-45DF-867B-4D4BAA0D8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6D33DA-EF00-4077-B782-DD89B059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B706E-03DC-4F23-BA36-557E938703A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81A339-F081-4DDC-A937-935665CBC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B5208E-3AA7-4C32-9C7E-BB1E033E7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2119EC-F95F-48DE-8C9E-1BF961ECC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B15A63-13AF-4936-86E7-BE3237F2D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BE76AE-EAFB-4BA6-B7B9-3BABBB394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4210DA-1EB2-4655-B8FE-F8E8E34BF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5B1ECC-1405-4DCE-AE21-940A78471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FC2744-4829-4F4D-AAB9-2C920802B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57A6B8-12FC-4288-BED2-38D7567BE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90EC8B-FF3D-4669-A9EB-D8D95CE7F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9EDC0-786E-454B-A805-81BBF1AD305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BC9A75-F0CF-40DB-A611-572327C7B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09059F-CEA6-44FD-9DA2-0E5668394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AA6B60-6BB5-413B-9A17-FD4E9CE6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048AFA-34FB-44B1-8BB2-64AECF4E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C5D2B2-E57B-4DF0-A10B-80D46A3DD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8F7174-EB1E-4F4D-A672-F6131D369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F316E7-29AA-4C2E-8F7D-F78AD2283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F6761F1-0047-4F79-9CC4-B6F0EBEEC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C943218-1204-442A-8696-B5C069221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0B1D647-51D5-4BA4-BC27-040E4FF56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32C41BB-7B6F-4879-A1D2-FE2462638EE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Rectangle 6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6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4"/>
          </p:nvPr>
        </p:nvSpPr>
        <p:spPr>
          <a:xfrm>
            <a:off x="457200" y="6353280"/>
            <a:ext cx="213192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/04/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5"/>
          </p:nvPr>
        </p:nvSpPr>
        <p:spPr>
          <a:xfrm>
            <a:off x="3123720" y="6354360"/>
            <a:ext cx="28940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2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9DFA19F-2F31-40D4-A3EA-5F7368200A0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6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27"/>
          </p:nvPr>
        </p:nvSpPr>
        <p:spPr>
          <a:xfrm>
            <a:off x="457200" y="6353280"/>
            <a:ext cx="213192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/04/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28"/>
          </p:nvPr>
        </p:nvSpPr>
        <p:spPr>
          <a:xfrm>
            <a:off x="3123720" y="6354360"/>
            <a:ext cx="28940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2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027ACD4-378C-4C76-BC1A-4A78EFDFF97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6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30"/>
          </p:nvPr>
        </p:nvSpPr>
        <p:spPr>
          <a:xfrm>
            <a:off x="457200" y="6353280"/>
            <a:ext cx="213192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/04/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31"/>
          </p:nvPr>
        </p:nvSpPr>
        <p:spPr>
          <a:xfrm>
            <a:off x="3123720" y="6354360"/>
            <a:ext cx="28940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2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32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8DDEDAE-23F4-40CF-9971-06888C98BC4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6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33"/>
          </p:nvPr>
        </p:nvSpPr>
        <p:spPr>
          <a:xfrm>
            <a:off x="457200" y="6353280"/>
            <a:ext cx="213192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/04/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34"/>
          </p:nvPr>
        </p:nvSpPr>
        <p:spPr>
          <a:xfrm>
            <a:off x="3123720" y="6354360"/>
            <a:ext cx="28940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2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sldNum" idx="35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FD57C4E-9E1E-47F3-8844-6AF59E078A4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36"/>
          </p:nvPr>
        </p:nvSpPr>
        <p:spPr>
          <a:xfrm>
            <a:off x="456840" y="624672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37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38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明朝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80C303F-EC12-451C-93C7-CAE2E09115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 type="dt" idx="39"/>
          </p:nvPr>
        </p:nvSpPr>
        <p:spPr>
          <a:xfrm>
            <a:off x="456840" y="624672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 type="ftr" idx="40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 type="sldNum" idx="41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明朝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C33459D-A2AC-4AE0-8078-ACF987C636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 type="dt" idx="42"/>
          </p:nvPr>
        </p:nvSpPr>
        <p:spPr>
          <a:xfrm>
            <a:off x="456840" y="624672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 type="ftr" idx="43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 type="sldNum" idx="44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明朝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55B9D69-501A-4EFB-8B70-CFA23B6755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 type="dt" idx="45"/>
          </p:nvPr>
        </p:nvSpPr>
        <p:spPr>
          <a:xfrm>
            <a:off x="456840" y="624672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 type="ftr" idx="46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 type="sldNum" idx="47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明朝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4B5AF90-6588-49BD-908F-34E56C9E01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 type="dt" idx="48"/>
          </p:nvPr>
        </p:nvSpPr>
        <p:spPr>
          <a:xfrm>
            <a:off x="456840" y="624672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 type="ftr" idx="49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 type="sldNum" idx="50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明朝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4E03071-7BD0-403D-9E33-4C130581E3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 type="dt" idx="51"/>
          </p:nvPr>
        </p:nvSpPr>
        <p:spPr>
          <a:xfrm>
            <a:off x="456840" y="624672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 type="ftr" idx="52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 type="sldNum" idx="53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明朝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83BB128-95A1-4578-8D18-828245E8E2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2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明朝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EBC60E9-FE53-4521-BF2D-839BC50CF8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 type="dt" idx="54"/>
          </p:nvPr>
        </p:nvSpPr>
        <p:spPr>
          <a:xfrm>
            <a:off x="456840" y="624672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 type="ftr" idx="55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 type="sldNum" idx="56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明朝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9C8DDF7-A9F0-42C0-85CE-5F74768E81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 type="dt" idx="57"/>
          </p:nvPr>
        </p:nvSpPr>
        <p:spPr>
          <a:xfrm>
            <a:off x="456840" y="624672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 type="ftr" idx="58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 type="sldNum" idx="59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明朝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892667D-ED7E-46E4-B7F4-649650C4F7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dt" idx="60"/>
          </p:nvPr>
        </p:nvSpPr>
        <p:spPr>
          <a:xfrm>
            <a:off x="456840" y="624672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 type="ftr" idx="61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 type="sldNum" idx="62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明朝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0D963AD-B809-4AFB-9915-062674E5CE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 type="dt" idx="63"/>
          </p:nvPr>
        </p:nvSpPr>
        <p:spPr>
          <a:xfrm>
            <a:off x="456840" y="624672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 type="ftr" idx="64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 type="sldNum" idx="65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明朝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4D8ADD3-38E5-4866-8B3C-4C43995BE5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 type="dt" idx="66"/>
          </p:nvPr>
        </p:nvSpPr>
        <p:spPr>
          <a:xfrm>
            <a:off x="456840" y="624672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 type="ftr" idx="67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 type="sldNum" idx="68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明朝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022C90E-6BD4-47B2-AE66-8C745AA557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6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3"/>
          </p:nvPr>
        </p:nvSpPr>
        <p:spPr>
          <a:xfrm>
            <a:off x="457200" y="6353280"/>
            <a:ext cx="213192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/04/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4"/>
          </p:nvPr>
        </p:nvSpPr>
        <p:spPr>
          <a:xfrm>
            <a:off x="3123720" y="6354360"/>
            <a:ext cx="28940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2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5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82A26DC-0256-4FA5-BB77-CCE67CD6304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6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6"/>
          </p:nvPr>
        </p:nvSpPr>
        <p:spPr>
          <a:xfrm>
            <a:off x="457200" y="6353280"/>
            <a:ext cx="213192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/04/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7"/>
          </p:nvPr>
        </p:nvSpPr>
        <p:spPr>
          <a:xfrm>
            <a:off x="3123720" y="6354360"/>
            <a:ext cx="28940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2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8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7DEB18B-CE5E-4091-B242-53860DD8F73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6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9"/>
          </p:nvPr>
        </p:nvSpPr>
        <p:spPr>
          <a:xfrm>
            <a:off x="457200" y="6353280"/>
            <a:ext cx="213192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/04/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0"/>
          </p:nvPr>
        </p:nvSpPr>
        <p:spPr>
          <a:xfrm>
            <a:off x="3123720" y="6354360"/>
            <a:ext cx="28940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2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500B926-DFC0-4136-963D-D5550543826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6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2"/>
          </p:nvPr>
        </p:nvSpPr>
        <p:spPr>
          <a:xfrm>
            <a:off x="457200" y="6353280"/>
            <a:ext cx="213192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/04/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3"/>
          </p:nvPr>
        </p:nvSpPr>
        <p:spPr>
          <a:xfrm>
            <a:off x="3123720" y="6354360"/>
            <a:ext cx="28940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2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A8A14B9-3CB1-419B-A564-96133E7396B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6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5"/>
          </p:nvPr>
        </p:nvSpPr>
        <p:spPr>
          <a:xfrm>
            <a:off x="457200" y="6353280"/>
            <a:ext cx="213192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/04/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16"/>
          </p:nvPr>
        </p:nvSpPr>
        <p:spPr>
          <a:xfrm>
            <a:off x="3123720" y="6354360"/>
            <a:ext cx="28940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2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A95D869-EABA-41BC-AD57-7B22DF054DE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6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8"/>
          </p:nvPr>
        </p:nvSpPr>
        <p:spPr>
          <a:xfrm>
            <a:off x="457200" y="6353280"/>
            <a:ext cx="213192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/04/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19"/>
          </p:nvPr>
        </p:nvSpPr>
        <p:spPr>
          <a:xfrm>
            <a:off x="3123720" y="6354360"/>
            <a:ext cx="28940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2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296A612-7E7B-4A3C-BB85-6E2C1FB8CE6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6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21"/>
          </p:nvPr>
        </p:nvSpPr>
        <p:spPr>
          <a:xfrm>
            <a:off x="457200" y="6353280"/>
            <a:ext cx="213192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/04/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2"/>
          </p:nvPr>
        </p:nvSpPr>
        <p:spPr>
          <a:xfrm>
            <a:off x="3123720" y="6354360"/>
            <a:ext cx="28940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2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8212D3B-E8A3-4A42-B418-949B9EA33B8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24573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262699"/>
                </a:solidFill>
                <a:latin typeface="HGPｺﾞｼｯｸE"/>
                <a:ea typeface="HGPｺﾞｼｯｸE"/>
              </a:rPr>
              <a:t>TVML SDK on UNITY</a:t>
            </a:r>
            <a:br>
              <a:rPr sz="6000"/>
            </a:br>
            <a:r>
              <a:rPr b="0" lang="ja-JP" sz="6000" spc="-1" strike="noStrike">
                <a:solidFill>
                  <a:srgbClr val="262699"/>
                </a:solidFill>
                <a:latin typeface="HGPｺﾞｼｯｸE"/>
                <a:ea typeface="HGPｺﾞｼｯｸE"/>
              </a:rPr>
              <a:t>チュートリアル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Text Box 2"/>
          <p:cNvSpPr/>
          <p:nvPr/>
        </p:nvSpPr>
        <p:spPr>
          <a:xfrm>
            <a:off x="1357200" y="411624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May, 2016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（</a:t>
            </a: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VML SDK Vesion1.2.2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対応）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Text Box 3"/>
          <p:cNvSpPr/>
          <p:nvPr/>
        </p:nvSpPr>
        <p:spPr>
          <a:xfrm>
            <a:off x="425520" y="333360"/>
            <a:ext cx="8229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ソースファイルのアタッチ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4" name="Text Box 3"/>
          <p:cNvSpPr/>
          <p:nvPr/>
        </p:nvSpPr>
        <p:spPr>
          <a:xfrm>
            <a:off x="425520" y="1120680"/>
            <a:ext cx="8229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Hierarchy</a:t>
            </a:r>
            <a:r>
              <a:rPr b="0" lang="ja-JP" sz="24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の</a:t>
            </a:r>
            <a:r>
              <a:rPr b="0" lang="en-US" sz="24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tvml</a:t>
            </a:r>
            <a:r>
              <a:rPr b="0" lang="ja-JP" sz="24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に、ソースコードをドラグアンドドロップ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45" name="Picture 6" descr=""/>
          <p:cNvPicPr/>
          <p:nvPr/>
        </p:nvPicPr>
        <p:blipFill>
          <a:blip r:embed="rId1"/>
          <a:stretch/>
        </p:blipFill>
        <p:spPr>
          <a:xfrm>
            <a:off x="2577960" y="2030400"/>
            <a:ext cx="4230720" cy="4487760"/>
          </a:xfrm>
          <a:prstGeom prst="rect">
            <a:avLst/>
          </a:prstGeom>
          <a:ln w="0">
            <a:noFill/>
          </a:ln>
        </p:spPr>
      </p:pic>
      <p:cxnSp>
        <p:nvCxnSpPr>
          <p:cNvPr id="1046" name="直線矢印コネクタ 2"/>
          <p:cNvCxnSpPr/>
          <p:nvPr/>
        </p:nvCxnSpPr>
        <p:spPr>
          <a:xfrm flipH="1" flipV="1">
            <a:off x="2971440" y="2415600"/>
            <a:ext cx="1197360" cy="18896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Text Box 3"/>
          <p:cNvSpPr/>
          <p:nvPr/>
        </p:nvSpPr>
        <p:spPr>
          <a:xfrm>
            <a:off x="425520" y="333360"/>
            <a:ext cx="8229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TVML</a:t>
            </a:r>
            <a:r>
              <a:rPr b="0" lang="ja-JP" sz="32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スクリプトのアタッチ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8" name="Text Box 3"/>
          <p:cNvSpPr/>
          <p:nvPr/>
        </p:nvSpPr>
        <p:spPr>
          <a:xfrm>
            <a:off x="425520" y="1120680"/>
            <a:ext cx="8229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作成したソースコードのコンポーネント</a:t>
            </a:r>
            <a:r>
              <a:rPr b="0" lang="en-US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"txtAsset"</a:t>
            </a: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に、適当な</a:t>
            </a:r>
            <a:r>
              <a:rPr b="0" lang="en-US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TVML</a:t>
            </a: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スクリプトをドラグアンドドロップしてアタッチ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49" name="Picture 2" descr=""/>
          <p:cNvPicPr/>
          <p:nvPr/>
        </p:nvPicPr>
        <p:blipFill>
          <a:blip r:embed="rId1"/>
          <a:stretch/>
        </p:blipFill>
        <p:spPr>
          <a:xfrm>
            <a:off x="2517840" y="1949400"/>
            <a:ext cx="4260960" cy="4489560"/>
          </a:xfrm>
          <a:prstGeom prst="rect">
            <a:avLst/>
          </a:prstGeom>
          <a:ln w="0">
            <a:noFill/>
          </a:ln>
        </p:spPr>
      </p:pic>
      <p:cxnSp>
        <p:nvCxnSpPr>
          <p:cNvPr id="1050" name="直線矢印コネクタ 2"/>
          <p:cNvCxnSpPr/>
          <p:nvPr/>
        </p:nvCxnSpPr>
        <p:spPr>
          <a:xfrm>
            <a:off x="4373640" y="4245120"/>
            <a:ext cx="1730880" cy="1829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Text Box 3"/>
          <p:cNvSpPr/>
          <p:nvPr/>
        </p:nvSpPr>
        <p:spPr>
          <a:xfrm>
            <a:off x="425520" y="333360"/>
            <a:ext cx="8229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起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2" name="Text Box 3"/>
          <p:cNvSpPr/>
          <p:nvPr/>
        </p:nvSpPr>
        <p:spPr>
          <a:xfrm>
            <a:off x="584280" y="1096920"/>
            <a:ext cx="825984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再生ボタンを押して起動した後、「</a:t>
            </a:r>
            <a:r>
              <a:rPr b="0" lang="en-US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A</a:t>
            </a: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」キーを押して</a:t>
            </a:r>
            <a:r>
              <a:rPr b="0" lang="en-US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TVML</a:t>
            </a: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スクリプトが再生されれば成功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53" name="Picture 5" descr=""/>
          <p:cNvPicPr/>
          <p:nvPr/>
        </p:nvPicPr>
        <p:blipFill>
          <a:blip r:embed="rId1"/>
          <a:stretch/>
        </p:blipFill>
        <p:spPr>
          <a:xfrm>
            <a:off x="774720" y="2252520"/>
            <a:ext cx="7531200" cy="42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Text Box 3"/>
          <p:cNvSpPr/>
          <p:nvPr/>
        </p:nvSpPr>
        <p:spPr>
          <a:xfrm>
            <a:off x="425520" y="333360"/>
            <a:ext cx="8229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割り込みスクリプト再生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5" name="Rectangle 13"/>
          <p:cNvSpPr/>
          <p:nvPr/>
        </p:nvSpPr>
        <p:spPr>
          <a:xfrm>
            <a:off x="46080" y="2562120"/>
            <a:ext cx="8647200" cy="14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f( Input.GetKeyDown(KeyCode.N)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eg.interruptScript ("character:bow(name=A, speed=3, wait=no)\n")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6" name="Text Box 3"/>
          <p:cNvSpPr/>
          <p:nvPr/>
        </p:nvSpPr>
        <p:spPr>
          <a:xfrm>
            <a:off x="425520" y="1314360"/>
            <a:ext cx="8229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TVML</a:t>
            </a: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テキストファイルを割り込みスクリプトとして再生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以下のコードを</a:t>
            </a:r>
            <a:r>
              <a:rPr b="0" lang="en-US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update</a:t>
            </a: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関数に追加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7" name="Text Box 3"/>
          <p:cNvSpPr/>
          <p:nvPr/>
        </p:nvSpPr>
        <p:spPr>
          <a:xfrm>
            <a:off x="563400" y="4667400"/>
            <a:ext cx="82296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A</a:t>
            </a: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キーで再生した後、</a:t>
            </a:r>
            <a:r>
              <a:rPr b="0" lang="en-US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N</a:t>
            </a: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キーを押して</a:t>
            </a:r>
            <a:r>
              <a:rPr b="0" lang="en-US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bow</a:t>
            </a: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（おじぎ）すれば成功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Text Box 1"/>
          <p:cNvSpPr/>
          <p:nvPr/>
        </p:nvSpPr>
        <p:spPr>
          <a:xfrm>
            <a:off x="5158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割り込みスクリプト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9" name="Text Box 2"/>
          <p:cNvSpPr/>
          <p:nvPr/>
        </p:nvSpPr>
        <p:spPr>
          <a:xfrm>
            <a:off x="303120" y="1200240"/>
            <a:ext cx="164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メインスクリプト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0" name="Line 3"/>
          <p:cNvSpPr/>
          <p:nvPr/>
        </p:nvSpPr>
        <p:spPr>
          <a:xfrm>
            <a:off x="1093680" y="1673280"/>
            <a:ext cx="1800" cy="4236840"/>
          </a:xfrm>
          <a:prstGeom prst="line">
            <a:avLst/>
          </a:prstGeom>
          <a:ln w="72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1" name="Line 4"/>
          <p:cNvSpPr/>
          <p:nvPr/>
        </p:nvSpPr>
        <p:spPr>
          <a:xfrm>
            <a:off x="1022400" y="1677960"/>
            <a:ext cx="142920" cy="144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2" name="Line 5"/>
          <p:cNvSpPr/>
          <p:nvPr/>
        </p:nvSpPr>
        <p:spPr>
          <a:xfrm>
            <a:off x="1011240" y="5916600"/>
            <a:ext cx="142920" cy="144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3" name="Line 6"/>
          <p:cNvSpPr/>
          <p:nvPr/>
        </p:nvSpPr>
        <p:spPr>
          <a:xfrm>
            <a:off x="3552840" y="1687680"/>
            <a:ext cx="1440" cy="1838160"/>
          </a:xfrm>
          <a:prstGeom prst="line">
            <a:avLst/>
          </a:prstGeom>
          <a:ln w="720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4" name="Line 7"/>
          <p:cNvSpPr/>
          <p:nvPr/>
        </p:nvSpPr>
        <p:spPr>
          <a:xfrm>
            <a:off x="3467160" y="1677960"/>
            <a:ext cx="142920" cy="144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5" name="Line 8"/>
          <p:cNvSpPr/>
          <p:nvPr/>
        </p:nvSpPr>
        <p:spPr>
          <a:xfrm>
            <a:off x="3495600" y="3541680"/>
            <a:ext cx="142920" cy="180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6" name="Line 9"/>
          <p:cNvSpPr/>
          <p:nvPr/>
        </p:nvSpPr>
        <p:spPr>
          <a:xfrm>
            <a:off x="3552840" y="3521160"/>
            <a:ext cx="1440" cy="1838160"/>
          </a:xfrm>
          <a:prstGeom prst="line">
            <a:avLst/>
          </a:prstGeom>
          <a:ln w="360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7" name="Line 10"/>
          <p:cNvSpPr/>
          <p:nvPr/>
        </p:nvSpPr>
        <p:spPr>
          <a:xfrm>
            <a:off x="5032440" y="2255760"/>
            <a:ext cx="1440" cy="1284480"/>
          </a:xfrm>
          <a:prstGeom prst="line">
            <a:avLst/>
          </a:prstGeom>
          <a:ln w="720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8" name="Line 11"/>
          <p:cNvSpPr/>
          <p:nvPr/>
        </p:nvSpPr>
        <p:spPr>
          <a:xfrm>
            <a:off x="4946760" y="2247840"/>
            <a:ext cx="142920" cy="180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9" name="Line 12"/>
          <p:cNvSpPr/>
          <p:nvPr/>
        </p:nvSpPr>
        <p:spPr>
          <a:xfrm>
            <a:off x="4959360" y="3541680"/>
            <a:ext cx="142920" cy="180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0" name="Line 13"/>
          <p:cNvSpPr/>
          <p:nvPr/>
        </p:nvSpPr>
        <p:spPr>
          <a:xfrm>
            <a:off x="5046840" y="3549600"/>
            <a:ext cx="1440" cy="1540080"/>
          </a:xfrm>
          <a:prstGeom prst="line">
            <a:avLst/>
          </a:prstGeom>
          <a:ln w="360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1" name="Line 14"/>
          <p:cNvSpPr/>
          <p:nvPr/>
        </p:nvSpPr>
        <p:spPr>
          <a:xfrm>
            <a:off x="6168960" y="3151080"/>
            <a:ext cx="1800" cy="1284480"/>
          </a:xfrm>
          <a:prstGeom prst="line">
            <a:avLst/>
          </a:prstGeom>
          <a:ln w="720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2" name="Line 15"/>
          <p:cNvSpPr/>
          <p:nvPr/>
        </p:nvSpPr>
        <p:spPr>
          <a:xfrm>
            <a:off x="6083280" y="3143160"/>
            <a:ext cx="142920" cy="180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3" name="Line 16"/>
          <p:cNvSpPr/>
          <p:nvPr/>
        </p:nvSpPr>
        <p:spPr>
          <a:xfrm>
            <a:off x="6097680" y="4437000"/>
            <a:ext cx="142920" cy="180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4" name="Line 17"/>
          <p:cNvSpPr/>
          <p:nvPr/>
        </p:nvSpPr>
        <p:spPr>
          <a:xfrm>
            <a:off x="6183360" y="4444920"/>
            <a:ext cx="1440" cy="1540080"/>
          </a:xfrm>
          <a:prstGeom prst="line">
            <a:avLst/>
          </a:prstGeom>
          <a:ln w="360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5" name="Line 18"/>
          <p:cNvSpPr/>
          <p:nvPr/>
        </p:nvSpPr>
        <p:spPr>
          <a:xfrm flipV="1">
            <a:off x="1136520" y="1746000"/>
            <a:ext cx="2318040" cy="1368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6" name="Line 19"/>
          <p:cNvSpPr/>
          <p:nvPr/>
        </p:nvSpPr>
        <p:spPr>
          <a:xfrm flipV="1">
            <a:off x="3595680" y="2344680"/>
            <a:ext cx="1365120" cy="217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7" name="Line 20"/>
          <p:cNvSpPr/>
          <p:nvPr/>
        </p:nvSpPr>
        <p:spPr>
          <a:xfrm>
            <a:off x="5060880" y="3041640"/>
            <a:ext cx="981000" cy="100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8" name="Line 21"/>
          <p:cNvSpPr/>
          <p:nvPr/>
        </p:nvSpPr>
        <p:spPr>
          <a:xfrm flipH="1" flipV="1">
            <a:off x="1134720" y="3240000"/>
            <a:ext cx="4923000" cy="1168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9" name="Text Box 22"/>
          <p:cNvSpPr/>
          <p:nvPr/>
        </p:nvSpPr>
        <p:spPr>
          <a:xfrm>
            <a:off x="2762280" y="1271520"/>
            <a:ext cx="217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割り込みスクリプ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#1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0" name="Text Box 23"/>
          <p:cNvSpPr/>
          <p:nvPr/>
        </p:nvSpPr>
        <p:spPr>
          <a:xfrm>
            <a:off x="303120" y="1200240"/>
            <a:ext cx="164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メインスクリプト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1" name="Text Box 24"/>
          <p:cNvSpPr/>
          <p:nvPr/>
        </p:nvSpPr>
        <p:spPr>
          <a:xfrm>
            <a:off x="4241880" y="1811160"/>
            <a:ext cx="2176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割り込みスクリプ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#2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2" name="Text Box 25"/>
          <p:cNvSpPr/>
          <p:nvPr/>
        </p:nvSpPr>
        <p:spPr>
          <a:xfrm>
            <a:off x="5948280" y="2692440"/>
            <a:ext cx="217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割り込みスクリプ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#3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3" name="Text Box 26"/>
          <p:cNvSpPr/>
          <p:nvPr/>
        </p:nvSpPr>
        <p:spPr>
          <a:xfrm>
            <a:off x="3205080" y="530064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dling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4" name="Text Box 27"/>
          <p:cNvSpPr/>
          <p:nvPr/>
        </p:nvSpPr>
        <p:spPr>
          <a:xfrm>
            <a:off x="4740120" y="498312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dling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5" name="Text Box 28"/>
          <p:cNvSpPr/>
          <p:nvPr/>
        </p:nvSpPr>
        <p:spPr>
          <a:xfrm>
            <a:off x="5834160" y="58500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dling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6" name="Text Box 29"/>
          <p:cNvSpPr/>
          <p:nvPr/>
        </p:nvSpPr>
        <p:spPr>
          <a:xfrm>
            <a:off x="488880" y="5992920"/>
            <a:ext cx="11667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終わったらアイドリング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7" name="Text Box 30"/>
          <p:cNvSpPr/>
          <p:nvPr/>
        </p:nvSpPr>
        <p:spPr>
          <a:xfrm>
            <a:off x="6753240" y="3270240"/>
            <a:ext cx="224784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割り込みスクリプトは、</a:t>
            </a:r>
            <a:br>
              <a:rPr sz="1400"/>
            </a:b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最後の行まで行った後に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・すぐ前のスクリプトへ戻るか</a:t>
            </a:r>
            <a:br>
              <a:rPr sz="1400"/>
            </a:b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・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dling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になるか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・メインスクリプトに戻るか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が選べる。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8" name="Line 31"/>
          <p:cNvSpPr/>
          <p:nvPr/>
        </p:nvSpPr>
        <p:spPr>
          <a:xfrm flipH="1">
            <a:off x="6267600" y="3852720"/>
            <a:ext cx="54288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9" name="Text Box 32"/>
          <p:cNvSpPr/>
          <p:nvPr/>
        </p:nvSpPr>
        <p:spPr>
          <a:xfrm rot="19980000">
            <a:off x="1639800" y="2112840"/>
            <a:ext cx="12463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terruptScript(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0" name="Text Box 33"/>
          <p:cNvSpPr/>
          <p:nvPr/>
        </p:nvSpPr>
        <p:spPr>
          <a:xfrm rot="780000">
            <a:off x="1385640" y="3573360"/>
            <a:ext cx="21002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terruptScriptThenReturnToMain(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1" name="Text Box 34"/>
          <p:cNvSpPr/>
          <p:nvPr/>
        </p:nvSpPr>
        <p:spPr>
          <a:xfrm>
            <a:off x="2751120" y="5792760"/>
            <a:ext cx="15588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終わった時点の絵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でアイドリング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2" name="Text Box 35"/>
          <p:cNvSpPr/>
          <p:nvPr/>
        </p:nvSpPr>
        <p:spPr>
          <a:xfrm>
            <a:off x="77760" y="2894040"/>
            <a:ext cx="100476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割り込み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場所を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覚えている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3" name="Line 21"/>
          <p:cNvSpPr/>
          <p:nvPr/>
        </p:nvSpPr>
        <p:spPr>
          <a:xfrm flipH="1" flipV="1">
            <a:off x="1119240" y="3144960"/>
            <a:ext cx="2419200" cy="404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4" name="Line 21"/>
          <p:cNvSpPr/>
          <p:nvPr/>
        </p:nvSpPr>
        <p:spPr>
          <a:xfrm flipH="1">
            <a:off x="3595680" y="3541680"/>
            <a:ext cx="1463760" cy="981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5" name="Line 21"/>
          <p:cNvSpPr/>
          <p:nvPr/>
        </p:nvSpPr>
        <p:spPr>
          <a:xfrm flipH="1" flipV="1">
            <a:off x="5101920" y="3090960"/>
            <a:ext cx="1052280" cy="1317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6" name="正方形/長方形 1"/>
          <p:cNvSpPr/>
          <p:nvPr/>
        </p:nvSpPr>
        <p:spPr>
          <a:xfrm>
            <a:off x="492480" y="887400"/>
            <a:ext cx="10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layScript(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7" name="正方形/長方形 40"/>
          <p:cNvSpPr/>
          <p:nvPr/>
        </p:nvSpPr>
        <p:spPr>
          <a:xfrm>
            <a:off x="3012120" y="958680"/>
            <a:ext cx="134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tteruptScript(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8" name="正方形/長方形 2"/>
          <p:cNvSpPr/>
          <p:nvPr/>
        </p:nvSpPr>
        <p:spPr>
          <a:xfrm>
            <a:off x="2889720" y="6232680"/>
            <a:ext cx="210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terruptScriptThenIdling(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Text Box 3"/>
          <p:cNvSpPr/>
          <p:nvPr/>
        </p:nvSpPr>
        <p:spPr>
          <a:xfrm>
            <a:off x="425520" y="333360"/>
            <a:ext cx="8229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ヒント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0" name="Text Box 3"/>
          <p:cNvSpPr/>
          <p:nvPr/>
        </p:nvSpPr>
        <p:spPr>
          <a:xfrm>
            <a:off x="870120" y="1246320"/>
            <a:ext cx="7502400" cy="49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Assets/Scenes</a:t>
            </a: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の中に</a:t>
            </a:r>
            <a:r>
              <a:rPr b="0" lang="en-US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TVML Player, interruption, autonews</a:t>
            </a: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のシーンファイルが入っているので、それぞれダブルクリックして起動してみるとよい。それぞれ、</a:t>
            </a:r>
            <a:r>
              <a:rPr b="0" lang="en-US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TVML Player</a:t>
            </a: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、簡単なインタラクティブアプリ、</a:t>
            </a:r>
            <a:r>
              <a:rPr b="0" lang="en-US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Web</a:t>
            </a: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の</a:t>
            </a:r>
            <a:r>
              <a:rPr b="0" lang="en-US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HTML</a:t>
            </a: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から自動的にアニメーション生成。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Assets/applications</a:t>
            </a: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の中に、上述のソースがある。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Assets/TVMLSDK/Resources</a:t>
            </a: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の下に、</a:t>
            </a:r>
            <a:r>
              <a:rPr b="0" lang="en-US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TVML</a:t>
            </a: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で使える</a:t>
            </a:r>
            <a:r>
              <a:rPr b="0" lang="en-US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CG</a:t>
            </a: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モデルなどのリソースが入っている。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ムービーも使える。サンプル</a:t>
            </a:r>
            <a:r>
              <a:rPr b="0" lang="en-US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TVML</a:t>
            </a: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スクリプトの</a:t>
            </a:r>
            <a:r>
              <a:rPr b="0" lang="en-US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movieplatetest</a:t>
            </a: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を再生するとわかる。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セットやプロップなど静止した</a:t>
            </a:r>
            <a:r>
              <a:rPr b="0" lang="en-US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CG</a:t>
            </a: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モデルは</a:t>
            </a:r>
            <a:r>
              <a:rPr b="0" lang="en-US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Unity Editor</a:t>
            </a: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上で配置して使っても構わない（必ずしも</a:t>
            </a:r>
            <a:r>
              <a:rPr b="0" lang="en-US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TVML</a:t>
            </a: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スクリプトの中で定義しなくていい）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デフォルトのままだと照明が暗く空気感も悪い。これはやはり</a:t>
            </a:r>
            <a:r>
              <a:rPr b="0" lang="en-US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Unity Editor</a:t>
            </a: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上で</a:t>
            </a:r>
            <a:r>
              <a:rPr b="0" lang="en-US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GI (Global Illumination)</a:t>
            </a: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などの様々な機能を駆使して作り込んでしまってもよい（必ずしも</a:t>
            </a:r>
            <a:r>
              <a:rPr b="0" lang="en-US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TVML</a:t>
            </a: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スクリプトの中で</a:t>
            </a:r>
            <a:r>
              <a:rPr b="0" lang="en-US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light</a:t>
            </a: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定義しなくていい）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キャラクタの新規追加は別途手順が必要（問い合わせてください）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Text Box 3"/>
          <p:cNvSpPr/>
          <p:nvPr/>
        </p:nvSpPr>
        <p:spPr>
          <a:xfrm>
            <a:off x="425520" y="333360"/>
            <a:ext cx="8229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課題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2" name="Text Box 3"/>
          <p:cNvSpPr/>
          <p:nvPr/>
        </p:nvSpPr>
        <p:spPr>
          <a:xfrm>
            <a:off x="1846440" y="2521080"/>
            <a:ext cx="586080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6000"/>
          </a:bodyPr>
          <a:p>
            <a:pPr marL="226080" indent="-226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再生・停止・一時停止ボタンを追加してください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26080" indent="-226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26080" indent="-226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行番号を表示してください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26080" indent="-226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26080" indent="-226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クイズを仕込む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490320" indent="-188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・ボタンを押すとキャラがカメラ目線になってクイズを出題し、ユーザー入力待ちになる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490320" indent="-188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・ユーザーがキー入力などで回答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490320" indent="-188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・正解不正解を告げて、元のメインスクリプトへ戻る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226080" indent="-22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26080" indent="-22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Rectangle 2"/>
          <p:cNvSpPr/>
          <p:nvPr/>
        </p:nvSpPr>
        <p:spPr>
          <a:xfrm>
            <a:off x="328680" y="2165400"/>
            <a:ext cx="857232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VML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言語仕様</a:t>
            </a:r>
            <a:r>
              <a:rPr b="0" lang="en-US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Version 3.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ゴシック"/>
              </a:rPr>
              <a:t>http://wjis76df.sakura.ne.jp/t2vlab/spec/tvmlspec31/index.htm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4" name="Text Box 3"/>
          <p:cNvSpPr/>
          <p:nvPr/>
        </p:nvSpPr>
        <p:spPr>
          <a:xfrm>
            <a:off x="425520" y="333360"/>
            <a:ext cx="8229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saka"/>
              </a:rPr>
              <a:t>TVML</a:t>
            </a:r>
            <a:r>
              <a:rPr b="0" lang="ja-JP" sz="3200" spc="-1" strike="noStrike">
                <a:solidFill>
                  <a:srgbClr val="000000"/>
                </a:solidFill>
                <a:latin typeface="Osaka"/>
              </a:rPr>
              <a:t>言語仕様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Text Box 3"/>
          <p:cNvSpPr/>
          <p:nvPr/>
        </p:nvSpPr>
        <p:spPr>
          <a:xfrm>
            <a:off x="425520" y="333360"/>
            <a:ext cx="8229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Osaka"/>
              </a:rPr>
              <a:t>準備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3" name="Text Box 3"/>
          <p:cNvSpPr/>
          <p:nvPr/>
        </p:nvSpPr>
        <p:spPr>
          <a:xfrm>
            <a:off x="468360" y="1989000"/>
            <a:ext cx="82692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saka"/>
                <a:ea typeface="Osaka"/>
              </a:rPr>
              <a:t>SDK</a:t>
            </a: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Osaka"/>
              </a:rPr>
              <a:t>は</a:t>
            </a:r>
            <a:r>
              <a:rPr b="0" lang="en-US" sz="2000" spc="-1" strike="noStrike">
                <a:solidFill>
                  <a:srgbClr val="000000"/>
                </a:solidFill>
                <a:latin typeface="Osaka"/>
                <a:ea typeface="Osaka"/>
              </a:rPr>
              <a:t>Unity</a:t>
            </a: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Osaka"/>
              </a:rPr>
              <a:t>のプロジェクトとして提供（フォルダ名：</a:t>
            </a:r>
            <a:r>
              <a:rPr b="0" lang="en-US" sz="2000" spc="-1" strike="noStrike">
                <a:solidFill>
                  <a:srgbClr val="000000"/>
                </a:solidFill>
                <a:latin typeface="Osaka"/>
                <a:ea typeface="Osaka"/>
              </a:rPr>
              <a:t>TvmlSDK1.2.2</a:t>
            </a: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Osaka"/>
              </a:rPr>
              <a:t>）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Osak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saka"/>
                <a:ea typeface="Osaka"/>
              </a:rPr>
              <a:t>Unity 5.3.4f1 (32-bit)</a:t>
            </a: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Osaka"/>
              </a:rPr>
              <a:t>をインストールする（またはこれ以降のバージョン）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Osaka"/>
                <a:ea typeface="Osaka"/>
              </a:rPr>
              <a:t>Unity</a:t>
            </a:r>
            <a:r>
              <a:rPr b="0" lang="ja-JP" sz="2000" spc="-1" strike="noStrike">
                <a:solidFill>
                  <a:srgbClr val="ff0000"/>
                </a:solidFill>
                <a:latin typeface="Osaka"/>
                <a:ea typeface="Osaka"/>
              </a:rPr>
              <a:t>に関する注意事項（重要）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Osak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1085760" indent="-3427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saka"/>
                <a:ea typeface="Osaka"/>
              </a:rPr>
              <a:t>SDK</a:t>
            </a:r>
            <a:r>
              <a:rPr b="0" lang="ja-JP" sz="1800" spc="-1" strike="noStrike">
                <a:solidFill>
                  <a:srgbClr val="000000"/>
                </a:solidFill>
                <a:latin typeface="Osaka"/>
                <a:ea typeface="Osaka"/>
              </a:rPr>
              <a:t>は</a:t>
            </a:r>
            <a:r>
              <a:rPr b="0" lang="en-US" sz="1800" spc="-1" strike="noStrike">
                <a:solidFill>
                  <a:srgbClr val="000000"/>
                </a:solidFill>
                <a:latin typeface="Osaka"/>
                <a:ea typeface="Osaka"/>
              </a:rPr>
              <a:t>Windows</a:t>
            </a:r>
            <a:r>
              <a:rPr b="0" lang="ja-JP" sz="1800" spc="-1" strike="noStrike">
                <a:solidFill>
                  <a:srgbClr val="000000"/>
                </a:solidFill>
                <a:latin typeface="Osaka"/>
                <a:ea typeface="Osaka"/>
              </a:rPr>
              <a:t>のみ。</a:t>
            </a:r>
            <a:r>
              <a:rPr b="0" lang="en-US" sz="1800" spc="-1" strike="noStrike">
                <a:solidFill>
                  <a:srgbClr val="000000"/>
                </a:solidFill>
                <a:latin typeface="Osaka"/>
                <a:ea typeface="Osaka"/>
              </a:rPr>
              <a:t>32</a:t>
            </a:r>
            <a:r>
              <a:rPr b="0" lang="ja-JP" sz="1800" spc="-1" strike="noStrike">
                <a:solidFill>
                  <a:srgbClr val="000000"/>
                </a:solidFill>
                <a:latin typeface="Osaka"/>
                <a:ea typeface="Osaka"/>
              </a:rPr>
              <a:t>ビットじゃないと音声合成が動かないので必ず</a:t>
            </a:r>
            <a:r>
              <a:rPr b="0" lang="en-US" sz="1800" spc="-1" strike="noStrike">
                <a:solidFill>
                  <a:srgbClr val="000000"/>
                </a:solidFill>
                <a:latin typeface="Osaka"/>
                <a:ea typeface="Osaka"/>
              </a:rPr>
              <a:t>32</a:t>
            </a:r>
            <a:r>
              <a:rPr b="0" lang="ja-JP" sz="1800" spc="-1" strike="noStrike">
                <a:solidFill>
                  <a:srgbClr val="000000"/>
                </a:solidFill>
                <a:latin typeface="Osaka"/>
                <a:ea typeface="Osaka"/>
              </a:rPr>
              <a:t>ビットの</a:t>
            </a:r>
            <a:r>
              <a:rPr b="0" lang="en-US" sz="1800" spc="-1" strike="noStrike">
                <a:solidFill>
                  <a:srgbClr val="000000"/>
                </a:solidFill>
                <a:latin typeface="Osaka"/>
                <a:ea typeface="Osaka"/>
              </a:rPr>
              <a:t>Unity</a:t>
            </a:r>
            <a:r>
              <a:rPr b="0" lang="ja-JP" sz="1800" spc="-1" strike="noStrike">
                <a:solidFill>
                  <a:srgbClr val="000000"/>
                </a:solidFill>
                <a:latin typeface="Osaka"/>
                <a:ea typeface="Osaka"/>
              </a:rPr>
              <a:t>を使うこと（</a:t>
            </a:r>
            <a:r>
              <a:rPr b="0" lang="en-US" sz="1800" spc="-1" strike="noStrike">
                <a:solidFill>
                  <a:srgbClr val="000000"/>
                </a:solidFill>
                <a:latin typeface="Osaka"/>
                <a:ea typeface="Osaka"/>
              </a:rPr>
              <a:t>Unity</a:t>
            </a:r>
            <a:r>
              <a:rPr b="0" lang="ja-JP" sz="1800" spc="-1" strike="noStrike">
                <a:solidFill>
                  <a:srgbClr val="000000"/>
                </a:solidFill>
                <a:latin typeface="Osaka"/>
                <a:ea typeface="Osaka"/>
              </a:rPr>
              <a:t>デフォルトでは</a:t>
            </a:r>
            <a:r>
              <a:rPr b="0" lang="en-US" sz="1800" spc="-1" strike="noStrike">
                <a:solidFill>
                  <a:srgbClr val="000000"/>
                </a:solidFill>
                <a:latin typeface="Osaka"/>
                <a:ea typeface="Osaka"/>
              </a:rPr>
              <a:t>64</a:t>
            </a:r>
            <a:r>
              <a:rPr b="0" lang="ja-JP" sz="1800" spc="-1" strike="noStrike">
                <a:solidFill>
                  <a:srgbClr val="000000"/>
                </a:solidFill>
                <a:latin typeface="Osaka"/>
                <a:ea typeface="Osaka"/>
              </a:rPr>
              <a:t>ビット）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1085760" indent="-3427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saka"/>
                <a:ea typeface="Osaka"/>
              </a:rPr>
              <a:t>32</a:t>
            </a:r>
            <a:r>
              <a:rPr b="0" lang="ja-JP" sz="1800" spc="-1" strike="noStrike">
                <a:solidFill>
                  <a:srgbClr val="000000"/>
                </a:solidFill>
                <a:latin typeface="Osaka"/>
                <a:ea typeface="Osaka"/>
              </a:rPr>
              <a:t>ビットインストーラーは、</a:t>
            </a:r>
            <a:r>
              <a:rPr b="0" lang="en-US" sz="1800" spc="-1" strike="noStrike">
                <a:solidFill>
                  <a:srgbClr val="000000"/>
                </a:solidFill>
                <a:latin typeface="Osaka"/>
                <a:ea typeface="Osaka"/>
              </a:rPr>
              <a:t>Unity</a:t>
            </a:r>
            <a:r>
              <a:rPr b="0" lang="ja-JP" sz="1800" spc="-1" strike="noStrike">
                <a:solidFill>
                  <a:srgbClr val="000000"/>
                </a:solidFill>
                <a:latin typeface="Osaka"/>
                <a:ea typeface="Osak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Osaka"/>
                <a:ea typeface="Osaka"/>
              </a:rPr>
              <a:t>Download</a:t>
            </a:r>
            <a:r>
              <a:rPr b="0" lang="ja-JP" sz="1800" spc="-1" strike="noStrike">
                <a:solidFill>
                  <a:srgbClr val="000000"/>
                </a:solidFill>
                <a:latin typeface="Osaka"/>
                <a:ea typeface="Osaka"/>
              </a:rPr>
              <a:t>ページの「</a:t>
            </a:r>
            <a:r>
              <a:rPr b="0" lang="en-US" sz="1800" spc="-1" strike="noStrike">
                <a:solidFill>
                  <a:srgbClr val="000000"/>
                </a:solidFill>
                <a:latin typeface="Osaka"/>
                <a:ea typeface="Osaka"/>
              </a:rPr>
              <a:t>Older versions of Unity</a:t>
            </a:r>
            <a:r>
              <a:rPr b="0" lang="ja-JP" sz="1800" spc="-1" strike="noStrike">
                <a:solidFill>
                  <a:srgbClr val="000000"/>
                </a:solidFill>
                <a:latin typeface="Osaka"/>
                <a:ea typeface="Osaka"/>
              </a:rPr>
              <a:t>」へ行き、「</a:t>
            </a:r>
            <a:r>
              <a:rPr b="0" lang="en-US" sz="1800" spc="-1" strike="noStrike">
                <a:solidFill>
                  <a:srgbClr val="000000"/>
                </a:solidFill>
                <a:latin typeface="Osaka"/>
                <a:ea typeface="Osaka"/>
              </a:rPr>
              <a:t>Unity</a:t>
            </a:r>
            <a:r>
              <a:rPr b="0" lang="ja-JP" sz="1800" spc="-1" strike="noStrike">
                <a:solidFill>
                  <a:srgbClr val="000000"/>
                </a:solidFill>
                <a:latin typeface="Osaka"/>
                <a:ea typeface="Osak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Osaka"/>
                <a:ea typeface="Osaka"/>
              </a:rPr>
              <a:t>Editor</a:t>
            </a:r>
            <a:r>
              <a:rPr b="0" lang="ja-JP" sz="1800" spc="-1" strike="noStrike">
                <a:solidFill>
                  <a:srgbClr val="000000"/>
                </a:solidFill>
                <a:latin typeface="Osaka"/>
                <a:ea typeface="Osak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Osaka"/>
                <a:ea typeface="Osaka"/>
              </a:rPr>
              <a:t>32-bit</a:t>
            </a:r>
            <a:r>
              <a:rPr b="0" lang="ja-JP" sz="1800" spc="-1" strike="noStrike">
                <a:solidFill>
                  <a:srgbClr val="000000"/>
                </a:solidFill>
                <a:latin typeface="Osaka"/>
                <a:ea typeface="Osaka"/>
              </a:rPr>
              <a:t>」をダウンロードしてインストールする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1085760" indent="-3427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Osaka"/>
                <a:ea typeface="Osaka"/>
              </a:rPr>
              <a:t>これだけでは、</a:t>
            </a:r>
            <a:r>
              <a:rPr b="0" lang="en-US" sz="1800" spc="-1" strike="noStrike">
                <a:solidFill>
                  <a:srgbClr val="000000"/>
                </a:solidFill>
                <a:latin typeface="Osaka"/>
                <a:ea typeface="Osaka"/>
              </a:rPr>
              <a:t>Web</a:t>
            </a:r>
            <a:r>
              <a:rPr b="0" lang="ja-JP" sz="1800" spc="-1" strike="noStrike">
                <a:solidFill>
                  <a:srgbClr val="000000"/>
                </a:solidFill>
                <a:latin typeface="Osaka"/>
                <a:ea typeface="Osak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Osaka"/>
                <a:ea typeface="Osaka"/>
              </a:rPr>
              <a:t>Player</a:t>
            </a:r>
            <a:r>
              <a:rPr b="0" lang="ja-JP" sz="1800" spc="-1" strike="noStrike">
                <a:solidFill>
                  <a:srgbClr val="000000"/>
                </a:solidFill>
                <a:latin typeface="Osaka"/>
                <a:ea typeface="Osaka"/>
              </a:rPr>
              <a:t>しか使えないので、別途</a:t>
            </a:r>
            <a:r>
              <a:rPr b="0" lang="en-US" sz="1800" spc="-1" strike="noStrike">
                <a:solidFill>
                  <a:srgbClr val="000000"/>
                </a:solidFill>
                <a:latin typeface="Osaka"/>
                <a:ea typeface="Osaka"/>
              </a:rPr>
              <a:t>PC</a:t>
            </a:r>
            <a:r>
              <a:rPr b="0" lang="ja-JP" sz="1800" spc="-1" strike="noStrike">
                <a:solidFill>
                  <a:srgbClr val="000000"/>
                </a:solidFill>
                <a:latin typeface="Osaka"/>
                <a:ea typeface="Osaka"/>
              </a:rPr>
              <a:t>ビルド用モジュールをインストールしないといけない。同じく「</a:t>
            </a:r>
            <a:r>
              <a:rPr b="0" lang="en-US" sz="1800" spc="-1" strike="noStrike">
                <a:solidFill>
                  <a:srgbClr val="000000"/>
                </a:solidFill>
                <a:latin typeface="Osaka"/>
                <a:ea typeface="Osaka"/>
              </a:rPr>
              <a:t>Older versions of Unity</a:t>
            </a:r>
            <a:r>
              <a:rPr b="0" lang="ja-JP" sz="1800" spc="-1" strike="noStrike">
                <a:solidFill>
                  <a:srgbClr val="000000"/>
                </a:solidFill>
                <a:latin typeface="Osaka"/>
                <a:ea typeface="Osaka"/>
              </a:rPr>
              <a:t>」 で「</a:t>
            </a:r>
            <a:r>
              <a:rPr b="0" lang="en-US" sz="1800" spc="-1" strike="noStrike">
                <a:solidFill>
                  <a:srgbClr val="000000"/>
                </a:solidFill>
                <a:latin typeface="Osaka"/>
                <a:ea typeface="Osaka"/>
              </a:rPr>
              <a:t>Unity</a:t>
            </a:r>
            <a:r>
              <a:rPr b="0" lang="ja-JP" sz="1800" spc="-1" strike="noStrike">
                <a:solidFill>
                  <a:srgbClr val="000000"/>
                </a:solidFill>
                <a:latin typeface="Osaka"/>
                <a:ea typeface="Osak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Osaka"/>
                <a:ea typeface="Osaka"/>
              </a:rPr>
              <a:t>Installer</a:t>
            </a:r>
            <a:r>
              <a:rPr b="0" lang="ja-JP" sz="1800" spc="-1" strike="noStrike">
                <a:solidFill>
                  <a:srgbClr val="000000"/>
                </a:solidFill>
                <a:latin typeface="Osaka"/>
                <a:ea typeface="Osaka"/>
              </a:rPr>
              <a:t>」をダウンロードし、インストーラを起動し、インストールモジュール選択画面が出るので、そこで「</a:t>
            </a:r>
            <a:r>
              <a:rPr b="0" lang="en-US" sz="1800" spc="-1" strike="noStrike">
                <a:solidFill>
                  <a:srgbClr val="000000"/>
                </a:solidFill>
                <a:latin typeface="Osaka"/>
                <a:ea typeface="Osaka"/>
              </a:rPr>
              <a:t>Windows</a:t>
            </a:r>
            <a:r>
              <a:rPr b="0" lang="ja-JP" sz="1800" spc="-1" strike="noStrike">
                <a:solidFill>
                  <a:srgbClr val="000000"/>
                </a:solidFill>
                <a:latin typeface="Osaka"/>
                <a:ea typeface="Osak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Osaka"/>
                <a:ea typeface="Osaka"/>
              </a:rPr>
              <a:t>Build</a:t>
            </a:r>
            <a:r>
              <a:rPr b="0" lang="ja-JP" sz="1800" spc="-1" strike="noStrike">
                <a:solidFill>
                  <a:srgbClr val="000000"/>
                </a:solidFill>
                <a:latin typeface="Osaka"/>
                <a:ea typeface="Osak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Osaka"/>
                <a:ea typeface="Osaka"/>
              </a:rPr>
              <a:t>Support</a:t>
            </a:r>
            <a:r>
              <a:rPr b="0" lang="ja-JP" sz="1800" spc="-1" strike="noStrike">
                <a:solidFill>
                  <a:srgbClr val="000000"/>
                </a:solidFill>
                <a:latin typeface="Osaka"/>
                <a:ea typeface="Osaka"/>
              </a:rPr>
              <a:t>」にチェックを入れ、後のチェックをすべて外し、インストールする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1085760" indent="-3427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Osaka"/>
                <a:ea typeface="Osaka"/>
              </a:rPr>
              <a:t>以上でインストール終了。</a:t>
            </a:r>
            <a:r>
              <a:rPr b="0" lang="en-US" sz="1800" spc="-1" strike="noStrike">
                <a:solidFill>
                  <a:srgbClr val="000000"/>
                </a:solidFill>
                <a:latin typeface="Osaka"/>
                <a:ea typeface="Osaka"/>
              </a:rPr>
              <a:t>Unity</a:t>
            </a:r>
            <a:r>
              <a:rPr b="0" lang="ja-JP" sz="1800" spc="-1" strike="noStrike">
                <a:solidFill>
                  <a:srgbClr val="000000"/>
                </a:solidFill>
                <a:latin typeface="Osaka"/>
                <a:ea typeface="Osaka"/>
              </a:rPr>
              <a:t>を起動し、プロジェクト</a:t>
            </a:r>
            <a:r>
              <a:rPr b="0" lang="en-US" sz="1800" spc="-1" strike="noStrike">
                <a:solidFill>
                  <a:srgbClr val="000000"/>
                </a:solidFill>
                <a:latin typeface="Osaka"/>
                <a:ea typeface="Osaka"/>
              </a:rPr>
              <a:t>TvmlSDK1.2.2</a:t>
            </a:r>
            <a:r>
              <a:rPr b="0" lang="ja-JP" sz="1800" spc="-1" strike="noStrike">
                <a:solidFill>
                  <a:srgbClr val="000000"/>
                </a:solidFill>
                <a:latin typeface="Osaka"/>
                <a:ea typeface="Osaka"/>
              </a:rPr>
              <a:t>を開き、「</a:t>
            </a:r>
            <a:r>
              <a:rPr b="0" lang="en-US" sz="1800" spc="-1" strike="noStrike">
                <a:solidFill>
                  <a:srgbClr val="000000"/>
                </a:solidFill>
                <a:latin typeface="Osaka"/>
                <a:ea typeface="Osaka"/>
              </a:rPr>
              <a:t>File</a:t>
            </a:r>
            <a:r>
              <a:rPr b="0" lang="ja-JP" sz="1800" spc="-1" strike="noStrike">
                <a:solidFill>
                  <a:srgbClr val="000000"/>
                </a:solidFill>
                <a:latin typeface="Osaka"/>
                <a:ea typeface="Osaka"/>
              </a:rPr>
              <a:t>」～「</a:t>
            </a:r>
            <a:r>
              <a:rPr b="0" lang="en-US" sz="1800" spc="-1" strike="noStrike">
                <a:solidFill>
                  <a:srgbClr val="000000"/>
                </a:solidFill>
                <a:latin typeface="Osaka"/>
                <a:ea typeface="Osaka"/>
              </a:rPr>
              <a:t>Build</a:t>
            </a:r>
            <a:r>
              <a:rPr b="0" lang="ja-JP" sz="1800" spc="-1" strike="noStrike">
                <a:solidFill>
                  <a:srgbClr val="000000"/>
                </a:solidFill>
                <a:latin typeface="Osaka"/>
                <a:ea typeface="Osak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Osaka"/>
                <a:ea typeface="Osaka"/>
              </a:rPr>
              <a:t>settings</a:t>
            </a:r>
            <a:r>
              <a:rPr b="0" lang="ja-JP" sz="1800" spc="-1" strike="noStrike">
                <a:solidFill>
                  <a:srgbClr val="000000"/>
                </a:solidFill>
                <a:latin typeface="Osaka"/>
                <a:ea typeface="Osaka"/>
              </a:rPr>
              <a:t>」を選ぶ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1085760" indent="-3427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saka"/>
                <a:ea typeface="Osaka"/>
              </a:rPr>
              <a:t>Platform</a:t>
            </a:r>
            <a:r>
              <a:rPr b="0" lang="ja-JP" sz="1800" spc="-1" strike="noStrike">
                <a:solidFill>
                  <a:srgbClr val="000000"/>
                </a:solidFill>
                <a:latin typeface="Osaka"/>
                <a:ea typeface="Osaka"/>
              </a:rPr>
              <a:t>の「</a:t>
            </a:r>
            <a:r>
              <a:rPr b="0" lang="en-US" sz="1800" spc="-1" strike="noStrike">
                <a:solidFill>
                  <a:srgbClr val="000000"/>
                </a:solidFill>
                <a:latin typeface="Osaka"/>
                <a:ea typeface="Osaka"/>
              </a:rPr>
              <a:t>PC, Mac &amp; Linux Standalone</a:t>
            </a:r>
            <a:r>
              <a:rPr b="0" lang="ja-JP" sz="1800" spc="-1" strike="noStrike">
                <a:solidFill>
                  <a:srgbClr val="000000"/>
                </a:solidFill>
                <a:latin typeface="Osaka"/>
                <a:ea typeface="Osaka"/>
              </a:rPr>
              <a:t>」をクリックし、左下の「</a:t>
            </a:r>
            <a:r>
              <a:rPr b="0" lang="en-US" sz="1800" spc="-1" strike="noStrike">
                <a:solidFill>
                  <a:srgbClr val="000000"/>
                </a:solidFill>
                <a:latin typeface="Osaka"/>
                <a:ea typeface="Osaka"/>
              </a:rPr>
              <a:t>Switch</a:t>
            </a:r>
            <a:r>
              <a:rPr b="0" lang="ja-JP" sz="1800" spc="-1" strike="noStrike">
                <a:solidFill>
                  <a:srgbClr val="000000"/>
                </a:solidFill>
                <a:latin typeface="Osaka"/>
                <a:ea typeface="Osak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Osaka"/>
                <a:ea typeface="Osaka"/>
              </a:rPr>
              <a:t>Platform</a:t>
            </a:r>
            <a:r>
              <a:rPr b="0" lang="ja-JP" sz="1800" spc="-1" strike="noStrike">
                <a:solidFill>
                  <a:srgbClr val="000000"/>
                </a:solidFill>
                <a:latin typeface="Osaka"/>
                <a:ea typeface="Osaka"/>
              </a:rPr>
              <a:t>」ボタンを押す。以上で正しく起動する。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日付プレースホルダー 1"/>
          <p:cNvSpPr/>
          <p:nvPr/>
        </p:nvSpPr>
        <p:spPr>
          <a:xfrm>
            <a:off x="457200" y="6353280"/>
            <a:ext cx="21319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0/04/11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5" name="フッター プレースホルダー 2"/>
          <p:cNvSpPr/>
          <p:nvPr/>
        </p:nvSpPr>
        <p:spPr>
          <a:xfrm>
            <a:off x="3124080" y="6354720"/>
            <a:ext cx="2894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2V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6" name="Text Box 3"/>
          <p:cNvSpPr/>
          <p:nvPr/>
        </p:nvSpPr>
        <p:spPr>
          <a:xfrm>
            <a:off x="425520" y="333360"/>
            <a:ext cx="8229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Osaka"/>
              </a:rPr>
              <a:t>まずは動作チェック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7" name="Text Box 3"/>
          <p:cNvSpPr/>
          <p:nvPr/>
        </p:nvSpPr>
        <p:spPr>
          <a:xfrm>
            <a:off x="474840" y="552600"/>
            <a:ext cx="8269200" cy="44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saka"/>
                <a:ea typeface="Osaka"/>
              </a:rPr>
              <a:t>Project</a:t>
            </a: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Osaka"/>
              </a:rPr>
              <a:t>ペインの</a:t>
            </a:r>
            <a:r>
              <a:rPr b="0" lang="en-US" sz="2000" spc="-1" strike="noStrike">
                <a:solidFill>
                  <a:srgbClr val="000000"/>
                </a:solidFill>
                <a:latin typeface="Osaka"/>
                <a:ea typeface="Osaka"/>
              </a:rPr>
              <a:t>Assets/TVMLSDK/Scenes</a:t>
            </a: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Osaka"/>
              </a:rPr>
              <a:t>の中の</a:t>
            </a:r>
            <a:r>
              <a:rPr b="0" lang="en-US" sz="2000" spc="-1" strike="noStrike">
                <a:solidFill>
                  <a:srgbClr val="000000"/>
                </a:solidFill>
                <a:latin typeface="Osaka"/>
                <a:ea typeface="Osaka"/>
              </a:rPr>
              <a:t>Scene</a:t>
            </a: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Osaka"/>
              </a:rPr>
              <a:t>ファイルの</a:t>
            </a:r>
            <a:r>
              <a:rPr b="0" lang="en-US" sz="2000" spc="-1" strike="noStrike">
                <a:solidFill>
                  <a:srgbClr val="000000"/>
                </a:solidFill>
                <a:latin typeface="Osaka"/>
                <a:ea typeface="Osaka"/>
              </a:rPr>
              <a:t>"TVMLPlayer"</a:t>
            </a: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Osaka"/>
              </a:rPr>
              <a:t>をダブルクリックする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saka"/>
                <a:ea typeface="Osaka"/>
              </a:rPr>
              <a:t>Unity</a:t>
            </a: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Osaka"/>
              </a:rPr>
              <a:t>の再生ボタンを押すと</a:t>
            </a:r>
            <a:r>
              <a:rPr b="0" lang="en-US" sz="2000" spc="-1" strike="noStrike">
                <a:solidFill>
                  <a:srgbClr val="000000"/>
                </a:solidFill>
                <a:latin typeface="Osaka"/>
                <a:ea typeface="Osaka"/>
              </a:rPr>
              <a:t>TVML</a:t>
            </a: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Osak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Osaka"/>
                <a:ea typeface="Osaka"/>
              </a:rPr>
              <a:t>Player</a:t>
            </a: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Osaka"/>
              </a:rPr>
              <a:t>が起動する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Osaka"/>
                <a:ea typeface="Osaka"/>
              </a:rPr>
              <a:t>注： </a:t>
            </a:r>
            <a:r>
              <a:rPr b="0" lang="en-US" sz="1600" spc="-1" strike="noStrike">
                <a:solidFill>
                  <a:srgbClr val="000000"/>
                </a:solidFill>
                <a:latin typeface="Osaka"/>
                <a:ea typeface="Osaka"/>
              </a:rPr>
              <a:t>Game</a:t>
            </a:r>
            <a:r>
              <a:rPr b="0" lang="ja-JP" sz="1600" spc="-1" strike="noStrike">
                <a:solidFill>
                  <a:srgbClr val="000000"/>
                </a:solidFill>
                <a:latin typeface="Osaka"/>
                <a:ea typeface="Osaka"/>
              </a:rPr>
              <a:t>再生画面の左上プルダウンで</a:t>
            </a:r>
            <a:r>
              <a:rPr b="0" lang="en-US" sz="1600" spc="-1" strike="noStrike">
                <a:solidFill>
                  <a:srgbClr val="000000"/>
                </a:solidFill>
                <a:latin typeface="Osaka"/>
                <a:ea typeface="Osaka"/>
              </a:rPr>
              <a:t>"Standalone(883x535)</a:t>
            </a:r>
            <a:r>
              <a:rPr b="0" lang="ja-JP" sz="1600" spc="-1" strike="noStrike">
                <a:solidFill>
                  <a:srgbClr val="000000"/>
                </a:solidFill>
                <a:latin typeface="Osaka"/>
                <a:ea typeface="Osaka"/>
              </a:rPr>
              <a:t>を選び、再生画面を十分大きく取っておく。そうしないと</a:t>
            </a:r>
            <a:r>
              <a:rPr b="0" lang="en-US" sz="1600" spc="-1" strike="noStrike">
                <a:solidFill>
                  <a:srgbClr val="000000"/>
                </a:solidFill>
                <a:latin typeface="Osaka"/>
                <a:ea typeface="Osaka"/>
              </a:rPr>
              <a:t>TVML Player</a:t>
            </a:r>
            <a:r>
              <a:rPr b="0" lang="ja-JP" sz="1600" spc="-1" strike="noStrike">
                <a:solidFill>
                  <a:srgbClr val="000000"/>
                </a:solidFill>
                <a:latin typeface="Osaka"/>
                <a:ea typeface="Osaka"/>
              </a:rPr>
              <a:t>の操作ボタン類が隠れて出ない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saka"/>
                <a:ea typeface="Osaka"/>
              </a:rPr>
              <a:t>TVML</a:t>
            </a: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Osak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Osaka"/>
                <a:ea typeface="Osaka"/>
              </a:rPr>
              <a:t>Player</a:t>
            </a: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Osaka"/>
              </a:rPr>
              <a:t>のファイル選択アイコンを押して、</a:t>
            </a:r>
            <a:r>
              <a:rPr b="0" lang="en-US" sz="2000" spc="-1" strike="noStrike">
                <a:solidFill>
                  <a:srgbClr val="000000"/>
                </a:solidFill>
                <a:latin typeface="Osaka"/>
                <a:ea typeface="Osaka"/>
              </a:rPr>
              <a:t>TVML</a:t>
            </a: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Osaka"/>
              </a:rPr>
              <a:t>スクリプト（例：</a:t>
            </a:r>
            <a:r>
              <a:rPr b="0" lang="en-US" sz="2000" spc="-1" strike="noStrike">
                <a:solidFill>
                  <a:srgbClr val="000000"/>
                </a:solidFill>
                <a:latin typeface="Osaka"/>
                <a:ea typeface="Osaka"/>
              </a:rPr>
              <a:t>3people.txt</a:t>
            </a: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Osaka"/>
              </a:rPr>
              <a:t>）を選んで、再生ボタンを押す。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Osaka"/>
                <a:ea typeface="Osaka"/>
              </a:rPr>
              <a:t>注： </a:t>
            </a:r>
            <a:r>
              <a:rPr b="0" lang="en-US" sz="1600" spc="-1" strike="noStrike">
                <a:solidFill>
                  <a:srgbClr val="000000"/>
                </a:solidFill>
                <a:latin typeface="Osaka"/>
                <a:ea typeface="Osaka"/>
              </a:rPr>
              <a:t>TVML</a:t>
            </a:r>
            <a:r>
              <a:rPr b="0" lang="ja-JP" sz="1600" spc="-1" strike="noStrike">
                <a:solidFill>
                  <a:srgbClr val="000000"/>
                </a:solidFill>
                <a:latin typeface="Osaka"/>
                <a:ea typeface="Osaka"/>
              </a:rPr>
              <a:t>サンプルスクリプトは</a:t>
            </a:r>
            <a:r>
              <a:rPr b="0" lang="en-US" sz="1600" spc="-1" strike="noStrike">
                <a:solidFill>
                  <a:srgbClr val="000000"/>
                </a:solidFill>
                <a:latin typeface="Osaka"/>
                <a:ea typeface="Osaka"/>
              </a:rPr>
              <a:t>"Assets/TVMLSDK/Resources/TVML Scripts"</a:t>
            </a:r>
            <a:r>
              <a:rPr b="0" lang="ja-JP" sz="1600" spc="-1" strike="noStrike">
                <a:solidFill>
                  <a:srgbClr val="000000"/>
                </a:solidFill>
                <a:latin typeface="Osaka"/>
                <a:ea typeface="Osaka"/>
              </a:rPr>
              <a:t>の中にいくつかある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Osaka"/>
              </a:rPr>
              <a:t>下記のように再生が始まり、音声合成の音が出れば成功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saka"/>
                <a:ea typeface="Osaka"/>
              </a:rPr>
              <a:t>TVML Player</a:t>
            </a: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Osaka"/>
              </a:rPr>
              <a:t>の表示サイズは</a:t>
            </a:r>
            <a:r>
              <a:rPr b="0" lang="en-US" sz="2000" spc="-1" strike="noStrike">
                <a:solidFill>
                  <a:srgbClr val="000000"/>
                </a:solidFill>
                <a:latin typeface="Osaka"/>
                <a:ea typeface="Osaka"/>
              </a:rPr>
              <a:t>853x480</a:t>
            </a: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Osaka"/>
              </a:rPr>
              <a:t>でアスペクト比</a:t>
            </a:r>
            <a:r>
              <a:rPr b="0" lang="en-US" sz="2000" spc="-1" strike="noStrike">
                <a:solidFill>
                  <a:srgbClr val="000000"/>
                </a:solidFill>
                <a:latin typeface="Osaka"/>
                <a:ea typeface="Osaka"/>
              </a:rPr>
              <a:t>16:9</a:t>
            </a: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Osaka"/>
              </a:rPr>
              <a:t>で、</a:t>
            </a:r>
            <a:r>
              <a:rPr b="0" lang="en-US" sz="2000" spc="-1" strike="noStrike">
                <a:solidFill>
                  <a:srgbClr val="000000"/>
                </a:solidFill>
                <a:latin typeface="Osaka"/>
                <a:ea typeface="Osaka"/>
              </a:rPr>
              <a:t>YouTube</a:t>
            </a: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Osaka"/>
              </a:rPr>
              <a:t>と同サイズにしてある。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08" name="Picture 7" descr=""/>
          <p:cNvPicPr/>
          <p:nvPr/>
        </p:nvPicPr>
        <p:blipFill>
          <a:blip r:embed="rId1"/>
          <a:stretch/>
        </p:blipFill>
        <p:spPr>
          <a:xfrm>
            <a:off x="2409840" y="4376880"/>
            <a:ext cx="4237200" cy="23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Text Box 3"/>
          <p:cNvSpPr/>
          <p:nvPr/>
        </p:nvSpPr>
        <p:spPr>
          <a:xfrm>
            <a:off x="425520" y="333360"/>
            <a:ext cx="8229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ＭＳ Ｐゴシック"/>
              </a:rPr>
              <a:t>TVML SDK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とアプリ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0" name="Text Box 6"/>
          <p:cNvSpPr/>
          <p:nvPr/>
        </p:nvSpPr>
        <p:spPr>
          <a:xfrm>
            <a:off x="981000" y="3022560"/>
            <a:ext cx="1828800" cy="106668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XX.c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1" name="Text Box 9"/>
          <p:cNvSpPr/>
          <p:nvPr/>
        </p:nvSpPr>
        <p:spPr>
          <a:xfrm>
            <a:off x="1168560" y="2530440"/>
            <a:ext cx="1863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アプリ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2" name="Text Box 6"/>
          <p:cNvSpPr/>
          <p:nvPr/>
        </p:nvSpPr>
        <p:spPr>
          <a:xfrm>
            <a:off x="5364000" y="3046320"/>
            <a:ext cx="2092320" cy="104292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vmlengine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3" name="Text Box 9"/>
          <p:cNvSpPr/>
          <p:nvPr/>
        </p:nvSpPr>
        <p:spPr>
          <a:xfrm>
            <a:off x="5551560" y="2554200"/>
            <a:ext cx="1863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VML SDK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014" name="直線矢印コネクタ 17"/>
          <p:cNvCxnSpPr/>
          <p:nvPr/>
        </p:nvCxnSpPr>
        <p:spPr>
          <a:xfrm>
            <a:off x="2919240" y="3209400"/>
            <a:ext cx="237744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15" name="Text Box 9"/>
          <p:cNvSpPr/>
          <p:nvPr/>
        </p:nvSpPr>
        <p:spPr>
          <a:xfrm>
            <a:off x="2743200" y="1841400"/>
            <a:ext cx="35942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4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ize()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PlayerViewPortRect(0,0,1,1)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yScript(text)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6" name="直線コネクタ 20"/>
          <p:cNvSpPr/>
          <p:nvPr/>
        </p:nvSpPr>
        <p:spPr>
          <a:xfrm flipV="1">
            <a:off x="3968640" y="2744280"/>
            <a:ext cx="0" cy="420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017" name="直線矢印コネクタ 26"/>
          <p:cNvCxnSpPr/>
          <p:nvPr/>
        </p:nvCxnSpPr>
        <p:spPr>
          <a:xfrm flipH="1">
            <a:off x="2918880" y="3512880"/>
            <a:ext cx="237744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18" name="Text Box 9"/>
          <p:cNvSpPr/>
          <p:nvPr/>
        </p:nvSpPr>
        <p:spPr>
          <a:xfrm>
            <a:off x="3005280" y="4646520"/>
            <a:ext cx="3369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bool getStatusPlay()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9" name="直線コネクタ 35"/>
          <p:cNvSpPr/>
          <p:nvPr/>
        </p:nvSpPr>
        <p:spPr>
          <a:xfrm flipV="1">
            <a:off x="3860640" y="3580920"/>
            <a:ext cx="108000" cy="1065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0" name="正方形/長方形 31"/>
          <p:cNvSpPr/>
          <p:nvPr/>
        </p:nvSpPr>
        <p:spPr>
          <a:xfrm>
            <a:off x="460800" y="5643720"/>
            <a:ext cx="469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vmlengine teg = GetComponent&lt;tvmlengine&gt;()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g.playScript(text)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1" name="Text Box 9"/>
          <p:cNvSpPr/>
          <p:nvPr/>
        </p:nvSpPr>
        <p:spPr>
          <a:xfrm>
            <a:off x="5546880" y="5678640"/>
            <a:ext cx="3597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DK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インスタンスをゲットして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2" name="Text Box 9"/>
          <p:cNvSpPr/>
          <p:nvPr/>
        </p:nvSpPr>
        <p:spPr>
          <a:xfrm>
            <a:off x="5546880" y="6105600"/>
            <a:ext cx="3371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メソッドをコールする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3" name="直線コネクタ 43"/>
          <p:cNvSpPr/>
          <p:nvPr/>
        </p:nvSpPr>
        <p:spPr>
          <a:xfrm flipH="1" flipV="1">
            <a:off x="5127120" y="5864400"/>
            <a:ext cx="419400" cy="26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4" name="直線コネクタ 45"/>
          <p:cNvSpPr/>
          <p:nvPr/>
        </p:nvSpPr>
        <p:spPr>
          <a:xfrm flipH="1" flipV="1">
            <a:off x="2484000" y="6186600"/>
            <a:ext cx="3062520" cy="13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5" name="Text Box 9"/>
          <p:cNvSpPr/>
          <p:nvPr/>
        </p:nvSpPr>
        <p:spPr>
          <a:xfrm>
            <a:off x="236520" y="5175360"/>
            <a:ext cx="257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DK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の使い方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6" name="Text Box 9"/>
          <p:cNvSpPr/>
          <p:nvPr/>
        </p:nvSpPr>
        <p:spPr>
          <a:xfrm>
            <a:off x="1461960" y="1146240"/>
            <a:ext cx="702000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◆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基本動作：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VM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スクリプト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in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を投げて再生する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Text Box 1"/>
          <p:cNvSpPr/>
          <p:nvPr/>
        </p:nvSpPr>
        <p:spPr>
          <a:xfrm>
            <a:off x="4888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2VSDK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の</a:t>
            </a:r>
            <a:r>
              <a:rPr b="0" lang="en-US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PI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一覧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8" name="Text Box 2"/>
          <p:cNvSpPr/>
          <p:nvPr/>
        </p:nvSpPr>
        <p:spPr>
          <a:xfrm>
            <a:off x="3446640" y="784080"/>
            <a:ext cx="323352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vmlengine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クラス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9" name="正方形/長方形 24"/>
          <p:cNvSpPr/>
          <p:nvPr/>
        </p:nvSpPr>
        <p:spPr>
          <a:xfrm>
            <a:off x="681840" y="1449360"/>
            <a:ext cx="784332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Osaka"/>
              </a:rPr>
              <a:t>initialize()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Osaka"/>
              </a:rPr>
              <a:t>　：　初期化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ts val="2398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Osaka"/>
              </a:rPr>
              <a:t>playScript(string tvmlscript)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Osaka"/>
              </a:rPr>
              <a:t>　：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Osaka"/>
              </a:rPr>
              <a:t>TVML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Osaka"/>
              </a:rPr>
              <a:t>スクリプト再生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ts val="2398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Osaka"/>
              </a:rPr>
              <a:t>playScriptNoReset(string tvmlscript)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Osaka"/>
              </a:rPr>
              <a:t>　：　同上（ただし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Osaka"/>
              </a:rPr>
              <a:t>reset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Osaka"/>
              </a:rPr>
              <a:t>しない）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ts val="2398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Osaka"/>
              </a:rPr>
              <a:t>interruptScript(string tvmlscript)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Osaka"/>
              </a:rPr>
              <a:t>　：　割り込みスクリプト再生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ts val="2398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Osaka"/>
              </a:rPr>
              <a:t>interruptScriptThenIdling(string tvmlscript)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Osaka"/>
              </a:rPr>
              <a:t>　：　同上。ただし終了後アイドリング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ts val="2398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Osaka"/>
              </a:rPr>
              <a:t>interruptScriptThenReturnToMain(string tvmlscript)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Osaka"/>
              </a:rPr>
              <a:t>　：　割り込みスクリプト後メインへ戻る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ts val="2398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Osaka"/>
              </a:rPr>
              <a:t>returnToMainScript()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Osaka"/>
              </a:rPr>
              <a:t>　：　メインスクリプトへ戻る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ts val="2398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Osaka"/>
              </a:rPr>
              <a:t>int getLinenumber()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Osaka"/>
              </a:rPr>
              <a:t>　：　現在再生中の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Osaka"/>
              </a:rPr>
              <a:t>TVML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Osaka"/>
              </a:rPr>
              <a:t>行番号を返す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ts val="2398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Osaka"/>
              </a:rPr>
              <a:t>bool getStatusPlay()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Osaka"/>
              </a:rPr>
              <a:t>　：　現在、再生中か否か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ts val="2398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Osaka"/>
              </a:rPr>
              <a:t>int getInterruptDepth()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Osaka"/>
              </a:rPr>
              <a:t>　：　割り込みの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Osaka"/>
              </a:rPr>
              <a:t>Depth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Osaka"/>
              </a:rPr>
              <a:t>を返す（最大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Osaka"/>
              </a:rPr>
              <a:t>:127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Osaka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ts val="2398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Osaka"/>
              </a:rPr>
              <a:t>play()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Osaka"/>
              </a:rPr>
              <a:t>　：　再生開始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ts val="2398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Osaka"/>
              </a:rPr>
              <a:t>stop()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Osaka"/>
              </a:rPr>
              <a:t>　：　停止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Osaka"/>
              </a:rPr>
              <a:t>reset()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Osaka"/>
              </a:rPr>
              <a:t>もする。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ts val="2398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Osaka"/>
              </a:rPr>
              <a:t>pause()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Osaka"/>
              </a:rPr>
              <a:t>　：　ポーズ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ts val="2398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Osaka"/>
              </a:rPr>
              <a:t>restart()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Osaka"/>
              </a:rPr>
              <a:t>　：　現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Osaka"/>
              </a:rPr>
              <a:t>play()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Osaka"/>
              </a:rPr>
              <a:t>を同様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ts val="2398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Osaka"/>
              </a:rPr>
              <a:t>switchCamera(string cam)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Osaka"/>
              </a:rPr>
              <a:t>　：　カメラをスイッチングする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ts val="2398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Osaka"/>
              </a:rPr>
              <a:t>setPlayerViewPortRect(float x, float y, float width, float height)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Osaka"/>
              </a:rPr>
              <a:t>　：　再生エリア設定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Text Box 3"/>
          <p:cNvSpPr/>
          <p:nvPr/>
        </p:nvSpPr>
        <p:spPr>
          <a:xfrm>
            <a:off x="425520" y="333360"/>
            <a:ext cx="8229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SDK</a:t>
            </a:r>
            <a:r>
              <a:rPr b="0" lang="ja-JP" sz="32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プログラミング初歩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1" name="Text Box 3"/>
          <p:cNvSpPr/>
          <p:nvPr/>
        </p:nvSpPr>
        <p:spPr>
          <a:xfrm>
            <a:off x="528480" y="1044720"/>
            <a:ext cx="8269560" cy="24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Hierarchy</a:t>
            </a: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ペインにあるオブジェクトを</a:t>
            </a:r>
            <a:r>
              <a:rPr b="0" lang="en-US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Delete</a:t>
            </a: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して空にする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Assets/TVMLSDK/Scripts/Resources/</a:t>
            </a: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にあるプレハブの</a:t>
            </a:r>
            <a:r>
              <a:rPr b="0" lang="en-US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"tvml"</a:t>
            </a: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を</a:t>
            </a:r>
            <a:r>
              <a:rPr b="0" lang="en-US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Hierarchy</a:t>
            </a: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ペインにドラグアンドドロップする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32" name="Picture 2" descr=""/>
          <p:cNvPicPr/>
          <p:nvPr/>
        </p:nvPicPr>
        <p:blipFill>
          <a:blip r:embed="rId1"/>
          <a:stretch/>
        </p:blipFill>
        <p:spPr>
          <a:xfrm>
            <a:off x="2668680" y="2473200"/>
            <a:ext cx="3848040" cy="4042080"/>
          </a:xfrm>
          <a:prstGeom prst="rect">
            <a:avLst/>
          </a:prstGeom>
          <a:ln w="0">
            <a:noFill/>
          </a:ln>
        </p:spPr>
      </p:pic>
      <p:cxnSp>
        <p:nvCxnSpPr>
          <p:cNvPr id="1033" name="直線矢印コネクタ 2"/>
          <p:cNvCxnSpPr/>
          <p:nvPr/>
        </p:nvCxnSpPr>
        <p:spPr>
          <a:xfrm flipH="1" flipV="1">
            <a:off x="3323880" y="2847240"/>
            <a:ext cx="800640" cy="22294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Text Box 3"/>
          <p:cNvSpPr/>
          <p:nvPr/>
        </p:nvSpPr>
        <p:spPr>
          <a:xfrm>
            <a:off x="425520" y="333360"/>
            <a:ext cx="8229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C#</a:t>
            </a:r>
            <a:r>
              <a:rPr b="0" lang="ja-JP" sz="32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ソースファイル作成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5" name="Rectangle 13"/>
          <p:cNvSpPr/>
          <p:nvPr/>
        </p:nvSpPr>
        <p:spPr>
          <a:xfrm>
            <a:off x="2304000" y="2451240"/>
            <a:ext cx="4353480" cy="406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180000" bIns="180000" anchor="t">
            <a:spAutoFit/>
          </a:bodyPr>
          <a:p>
            <a:pPr>
              <a:lnSpc>
                <a:spcPts val="1199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sing UnityEngine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ts val="1199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sing System.Collections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ts val="1199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ts val="1199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ublic class simple : MonoBehaviour {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ts val="1199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ts val="1199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// Use this for initializa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ts val="1199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oid Start () {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ts val="1199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ts val="1199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ts val="1199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ts val="1199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// Update is called once per fram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ts val="1199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oid Update () {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ts val="1199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ts val="1199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ts val="1199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6" name="Text Box 3"/>
          <p:cNvSpPr/>
          <p:nvPr/>
        </p:nvSpPr>
        <p:spPr>
          <a:xfrm>
            <a:off x="425520" y="1398600"/>
            <a:ext cx="8229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Assets/aplications</a:t>
            </a: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の下で右クリックし</a:t>
            </a:r>
            <a:r>
              <a:rPr b="0" lang="en-US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Create</a:t>
            </a: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～</a:t>
            </a:r>
            <a:r>
              <a:rPr b="0" lang="en-US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C# Script</a:t>
            </a: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でソースファイルを作成する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注：　ファイル名とクラス名を同じにすること。そうしないとこの後アタッチするときエラーになる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Text Box 3"/>
          <p:cNvSpPr/>
          <p:nvPr/>
        </p:nvSpPr>
        <p:spPr>
          <a:xfrm>
            <a:off x="425520" y="333360"/>
            <a:ext cx="8229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コードを書く：　エンジン取得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8" name="Text Box 3"/>
          <p:cNvSpPr/>
          <p:nvPr/>
        </p:nvSpPr>
        <p:spPr>
          <a:xfrm>
            <a:off x="425520" y="1120680"/>
            <a:ext cx="8229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コンポーネントをゲットして初期化と、描画エリア設定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9" name="Rectangle 13"/>
          <p:cNvSpPr/>
          <p:nvPr/>
        </p:nvSpPr>
        <p:spPr>
          <a:xfrm>
            <a:off x="2175120" y="2616120"/>
            <a:ext cx="4906440" cy="279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180000" bIns="180000" anchor="t">
            <a:spAutoFit/>
          </a:bodyPr>
          <a:p>
            <a:pPr>
              <a:lnSpc>
                <a:spcPts val="1199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ublic class hayashi : MonoBehaviour {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ts val="1199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vmlengine teg;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ts val="1199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ts val="1199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oid Start () {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ts val="1199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eg = GetComponent&lt;tvmlengine&gt;()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ts val="1199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eg.initialize();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ts val="1199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eg.setPlayerViewPortRect(0, 0, 1, 1)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ts val="1199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ts val="1199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ts val="1199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・・・・・・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Text Box 3"/>
          <p:cNvSpPr/>
          <p:nvPr/>
        </p:nvSpPr>
        <p:spPr>
          <a:xfrm>
            <a:off x="425520" y="333360"/>
            <a:ext cx="8229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コードを書く：　</a:t>
            </a:r>
            <a:r>
              <a:rPr b="0" lang="en-US" sz="32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TVML</a:t>
            </a:r>
            <a:r>
              <a:rPr b="0" lang="ja-JP" sz="32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スクリプト再生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1" name="Text Box 3"/>
          <p:cNvSpPr/>
          <p:nvPr/>
        </p:nvSpPr>
        <p:spPr>
          <a:xfrm>
            <a:off x="979560" y="1217520"/>
            <a:ext cx="707076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「</a:t>
            </a:r>
            <a:r>
              <a:rPr b="0" lang="en-US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A</a:t>
            </a: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」のキーを押すと、</a:t>
            </a:r>
            <a:r>
              <a:rPr b="0" lang="en-US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TVML</a:t>
            </a: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テキストファイルをメインスクリプトとして再生する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2" name="Rectangle 13"/>
          <p:cNvSpPr/>
          <p:nvPr/>
        </p:nvSpPr>
        <p:spPr>
          <a:xfrm>
            <a:off x="2106000" y="2316240"/>
            <a:ext cx="4659120" cy="3304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180000" bIns="180000" anchor="t">
            <a:spAutoFit/>
          </a:bodyPr>
          <a:p>
            <a:pPr>
              <a:lnSpc>
                <a:spcPts val="1199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ublic class hayashi : MonoBehaviour {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ts val="1199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vmlengine teg;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ts val="1199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ublic TextAsset txtAsset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ts val="1199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ts val="1199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oid Start () {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・・・・・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ts val="1199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ts val="1199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oid Update()    {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ts val="1199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f( Input.GetKey(KeyCode.A)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ts val="1199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ts val="1199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eg.playScript(txtAsset.text)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ts val="1199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ts val="1199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9T01:08:34Z</dcterms:created>
  <dc:creator/>
  <dc:description/>
  <dc:language>en-US</dc:language>
  <cp:lastModifiedBy>hayasim77@gmail.com</cp:lastModifiedBy>
  <dcterms:modified xsi:type="dcterms:W3CDTF">2016-05-28T14:42:53Z</dcterms:modified>
  <cp:revision>180</cp:revision>
  <dc:subject/>
  <dc:title>T2V SDK について</dc:title>
</cp:coreProperties>
</file>